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9F3-60B7-4B99-907B-157A1A11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C5B-2566-4660-A4CB-4DE9EAD0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CB0-D8E0-4C26-B8DF-C9587FB8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469-5EFA-4524-82FF-65B93AF9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A7B-277F-4803-89F1-E617654A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462-AA1B-42D6-970E-76D85A2C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AAC-6DC1-45AB-A3B8-103194E7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C9F-0063-4CBB-92FE-5A70A08E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760"/>
            <a:ext cx="680544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C27-DCB5-4B9A-896B-FC29AEDE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E1B-0570-42F7-937A-7DD0C8D0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BA4-1758-48C8-AA01-3C7E534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BDA-F45A-4AFD-9991-5A44144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671D-79FA-4551-9F4D-671212BBFED1}" type="slidenum">
              <a:rPr b="0" lang="de-DE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 rot="7264800">
            <a:off x="1043640" y="77173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J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600200" y="4648320"/>
            <a:ext cx="39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heit der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209680" y="9753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kt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 rot="7228800">
            <a:off x="48960" y="7797240"/>
            <a:ext cx="48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lust von Lage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lar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 rot="14251800">
            <a:off x="1928520" y="241380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örper fällt nach 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 rot="14267400">
            <a:off x="2541600" y="797328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ieerhaltungssa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ib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7254600">
            <a:off x="6120" y="2811240"/>
            <a:ext cx="46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ie geht nicht verl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4267400">
            <a:off x="2344320" y="786852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wegungs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kraft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 rot="7254600">
            <a:off x="608040" y="2771280"/>
            <a:ext cx="36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inet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rot="14267400">
            <a:off x="2204640" y="7470000"/>
            <a:ext cx="458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Umwandlung von elektrischer Energie in mechanische Energ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 rot="7356600">
            <a:off x="1064160" y="79246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nd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4699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ge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 rot="14267400">
            <a:off x="2048400" y="7472520"/>
            <a:ext cx="503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Umwandlung von Sonnenenergie in elektrische Energi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 rot="18141000">
            <a:off x="158400" y="281340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Calibri"/>
              </a:rPr>
              <a:t>Umwandlung von Kernenergie in elektrische Energ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 rot="3514200">
            <a:off x="2907360" y="2957760"/>
            <a:ext cx="402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Calibri"/>
              </a:rPr>
              <a:t>Umwandlung von Windenergie in mechanische Energ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12720" y="541800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 rot="7356600">
            <a:off x="416160" y="7812000"/>
            <a:ext cx="422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gewinn an kinetischer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76520" y="464832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ssile Energieträ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 rot="14267400">
            <a:off x="2143800" y="7743960"/>
            <a:ext cx="53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stehung von Wä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 rot="3513000">
            <a:off x="2051640" y="2671200"/>
            <a:ext cx="54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örper wird beschleuni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ann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120680" y="4648320"/>
            <a:ext cx="52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nerative Energiequ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 rot="14267400">
            <a:off x="2648160" y="7866000"/>
            <a:ext cx="433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chanische Energie- übertragung (Arbe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 rot="3513000">
            <a:off x="2455920" y="257220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tenziell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 rot="7295400">
            <a:off x="315720" y="7759440"/>
            <a:ext cx="43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nd, Sonne, Biom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 rot="3513000">
            <a:off x="3332160" y="294192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hle, Gas, Erdö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 rot="7295400">
            <a:off x="135720" y="779040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formung eines Kör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 rot="18119400">
            <a:off x="6840" y="2813760"/>
            <a:ext cx="47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 = F *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3:52:52Z</dcterms:created>
  <dc:creator>H.H.</dc:creator>
  <dc:description/>
  <dc:language>en-US</dc:language>
  <cp:lastModifiedBy>test</cp:lastModifiedBy>
  <dcterms:modified xsi:type="dcterms:W3CDTF">2013-03-21T12:30:49Z</dcterms:modified>
  <cp:revision>10</cp:revision>
  <dc:subject/>
  <dc:title>Folie 1</dc:title>
</cp:coreProperties>
</file>