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C86-472D-41F3-8860-D0CEBA45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F8C-C9CB-49B1-AE5B-68FA1AB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AE9-AD8D-4F5F-BF97-3A86C101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9D4-0A42-4AF3-99D9-78AF6A88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EE9-0C69-40FA-8AA0-6205EB79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060-8575-4D05-9132-4529E04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8EA-0BF6-4170-A3A7-96374D8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CF0-6576-4B56-BB73-A99596D4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307-422F-42FA-92E1-1653D38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E00-9C75-4313-A080-8B1F4F5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816-84AD-4155-8C1D-3993C96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EA3-F122-4D1B-8BCC-97B1C8E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5D0-856A-435A-A36D-26696F2E12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42880" y="654120"/>
            <a:ext cx="5772240" cy="45147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30280" y="5262480"/>
            <a:ext cx="5781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18:05Z</dcterms:modified>
  <cp:revision>64</cp:revision>
  <dc:subject/>
  <dc:title>Folie 1</dc:title>
</cp:coreProperties>
</file>