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EE0-41B5-4706-AC6A-3A2637C9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496-E815-4CBA-896C-033E37DE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DF0-2F81-4F6B-A4DF-3DD99CB5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855-1E38-4C31-B1EB-6BE50470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88C-006A-48BA-882C-062F0584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0DA-3139-46D1-AA79-0310CE5F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5C1-FEBA-4B39-8DEE-DF8A261B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B23-DC4A-4286-A9BE-EA9AC666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1BE-8B36-4095-A8B6-E7E1C872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BB9-4684-478D-9C88-B82EC3D6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76D-7ACD-454D-847F-35007A93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FB6-1238-4F68-BF43-6B87AA2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2F2E-3071-4503-B6C9-8EE16BD210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538200" y="343080"/>
            <a:ext cx="5781600" cy="92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18:28Z</dcterms:modified>
  <cp:revision>64</cp:revision>
  <dc:subject/>
  <dc:title>Folie 1</dc:title>
</cp:coreProperties>
</file>