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A21-DCDB-4A79-A97E-5193284C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E53-F3D1-4EAB-AEB4-5B50AAAE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FF8-25AD-4DD2-8058-B1C08E7F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844-91FC-4169-B438-DDED9485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648-FA7C-4201-80C2-010EA38B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99E-60A6-42BE-8FA2-7F47B605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367-0422-47A4-B42B-98DEF6AA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DF6-C206-4B9C-A85B-8CB9F536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33B-F1E1-4FB5-BEC2-39142D3C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184-ED55-4E45-A4D2-5D1DCEC6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0B7-8D84-4F99-A05A-68D8CD02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BD6-6E30-4B06-92F6-71B0B35A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283A-5189-44DB-8B35-211849D445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417600"/>
            <a:ext cx="1944720" cy="357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27120" y="488880"/>
            <a:ext cx="1895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s Druck-Dom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440" y="1136520"/>
            <a:ext cx="629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neide die einzelnen Karten aus und lege dann die zugehörigen Karten nebenein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8480" y="1486080"/>
            <a:ext cx="5934240" cy="4628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9360" y="6238800"/>
            <a:ext cx="59720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7:28:04Z</dcterms:modified>
  <cp:revision>79</cp:revision>
  <dc:subject/>
  <dc:title>Folie 1</dc:title>
</cp:coreProperties>
</file>