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17A-43CD-4E06-8E48-818C919E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7A6-F63C-4F03-ABFE-31C56A1F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4A4-A278-40A0-A025-0A160AB9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A02-C939-401E-8587-45C7F886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006-A92B-498B-AAFD-1FE108D2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B5D-AF5A-4ED1-9317-D071201C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D58-C464-44B3-B3B2-004CD65E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26D-23C1-46ED-A877-D6F8401B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998-7478-424D-BDE2-5F55F15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B57-1EFB-42F3-B247-0B64F68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DF9-F82C-446C-A670-67506F3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844-BF9A-4325-8D83-6F3D464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699F-EA93-4B96-A51B-4616CA9AB1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438280" y="417600"/>
            <a:ext cx="1927440" cy="64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427120" y="488880"/>
            <a:ext cx="1895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 Druck-Dom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9360" y="1208160"/>
            <a:ext cx="6010200" cy="78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29:13Z</dcterms:modified>
  <cp:revision>78</cp:revision>
  <dc:subject/>
  <dc:title>Folie 1</dc:title>
</cp:coreProperties>
</file>