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EAC-DF90-40A3-821B-5D315E9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6B7-FD36-461B-815A-353993D1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4DF-52A0-42A3-A4EB-D70F16F1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127-CB4D-47BC-BB4E-B5A79B9C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703-EB3A-4986-8F95-FB49D981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B1C-CAF0-4B8F-A99E-EE51A35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F28-23BA-46D0-8F21-7FF8BFB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9A9-EA98-4EDD-A111-52F4E69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A70-7453-4AAB-83EC-29FE44B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274-9E14-4E37-825F-AB0B63F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C25-531D-436D-BC83-72071AA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FFB-4DB5-44BF-A6C3-EC2B149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A0B-8E1C-42A1-A714-3CAE8FA646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25360" y="992160"/>
            <a:ext cx="4607280" cy="574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00880" y="1060560"/>
            <a:ext cx="45590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sche Effekte durch Lichtbrechung - Glas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49360" y="17845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682452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6897600"/>
            <a:ext cx="59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82137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6280" y="8183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080" y="7945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6440" y="8224200"/>
            <a:ext cx="396000" cy="84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2800" y="84661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9720" y="80344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50800" y="8048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74080" y="7832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44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680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1772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5844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72440" y="1321200"/>
            <a:ext cx="5236200" cy="5414760"/>
            <a:chOff x="1072440" y="1321200"/>
            <a:chExt cx="5236200" cy="5414760"/>
          </a:xfrm>
        </p:grpSpPr>
        <p:grpSp>
          <p:nvGrpSpPr>
            <p:cNvPr id="57" name=""/>
            <p:cNvGrpSpPr/>
            <p:nvPr/>
          </p:nvGrpSpPr>
          <p:grpSpPr>
            <a:xfrm>
              <a:off x="1072440" y="1321200"/>
              <a:ext cx="5236200" cy="5414760"/>
              <a:chOff x="1072440" y="1321200"/>
              <a:chExt cx="5236200" cy="5414760"/>
            </a:xfrm>
          </p:grpSpPr>
          <p:sp>
            <p:nvSpPr>
              <p:cNvPr id="58" name=""/>
              <p:cNvSpPr/>
              <p:nvPr/>
            </p:nvSpPr>
            <p:spPr>
              <a:xfrm rot="10800000">
                <a:off x="1268280" y="1321200"/>
                <a:ext cx="5040360" cy="5329080"/>
              </a:xfrm>
              <a:prstGeom prst="blockArc">
                <a:avLst>
                  <a:gd name="adj1" fmla="val 10814052"/>
                  <a:gd name="adj2" fmla="val 21585948"/>
                  <a:gd name="adj3" fmla="val 243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1541600">
                <a:off x="2785680" y="6367320"/>
                <a:ext cx="792000" cy="28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0800000">
                <a:off x="1185840" y="3927960"/>
                <a:ext cx="422280" cy="9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3057200">
                <a:off x="1038240" y="5383440"/>
                <a:ext cx="2160360" cy="62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197440" y="2548800"/>
              <a:ext cx="3951000" cy="4162320"/>
              <a:chOff x="2197440" y="2548800"/>
              <a:chExt cx="3951000" cy="41623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197440" y="2722320"/>
                <a:ext cx="3168360" cy="2324520"/>
                <a:chOff x="2197440" y="2722320"/>
                <a:chExt cx="3168360" cy="2324520"/>
              </a:xfrm>
            </p:grpSpPr>
            <p:sp>
              <p:nvSpPr>
                <p:cNvPr id="64" name=""/>
                <p:cNvSpPr/>
                <p:nvPr/>
              </p:nvSpPr>
              <p:spPr>
                <a:xfrm rot="10800000">
                  <a:off x="2726640" y="2933640"/>
                  <a:ext cx="2113200" cy="21132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800000">
                  <a:off x="2197440" y="2722320"/>
                  <a:ext cx="3168360" cy="126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2724480" y="3989520"/>
                  <a:ext cx="211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 flipH="1" flipV="1">
                <a:off x="3798360" y="3991680"/>
                <a:ext cx="410400" cy="177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3797640" y="3990240"/>
                <a:ext cx="1046880" cy="14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3778920" y="3983400"/>
                <a:ext cx="1221120" cy="13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3801960" y="3996000"/>
                <a:ext cx="158112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3803400" y="3981960"/>
                <a:ext cx="771480" cy="16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3789360" y="2548800"/>
                <a:ext cx="0" cy="360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4155120" y="5753520"/>
                <a:ext cx="405720" cy="929160"/>
                <a:chOff x="4155120" y="5753520"/>
                <a:chExt cx="405720" cy="929160"/>
              </a:xfrm>
            </p:grpSpPr>
            <p:sp>
              <p:nvSpPr>
                <p:cNvPr id="74" name=""/>
                <p:cNvSpPr/>
                <p:nvPr/>
              </p:nvSpPr>
              <p:spPr>
                <a:xfrm rot="15409800">
                  <a:off x="3974400" y="6053400"/>
                  <a:ext cx="64764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5409800">
                  <a:off x="4160880" y="5791680"/>
                  <a:ext cx="14256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5409800">
                  <a:off x="4235040" y="6358680"/>
                  <a:ext cx="30276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514400" y="5611320"/>
                <a:ext cx="549000" cy="907200"/>
                <a:chOff x="4514400" y="5611320"/>
                <a:chExt cx="549000" cy="907200"/>
              </a:xfrm>
            </p:grpSpPr>
            <p:sp>
              <p:nvSpPr>
                <p:cNvPr id="78" name=""/>
                <p:cNvSpPr/>
                <p:nvPr/>
              </p:nvSpPr>
              <p:spPr>
                <a:xfrm rot="14750400">
                  <a:off x="4388040" y="5896080"/>
                  <a:ext cx="64764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4750400">
                  <a:off x="4520160" y="5652000"/>
                  <a:ext cx="14256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4750400">
                  <a:off x="4718520" y="6177600"/>
                  <a:ext cx="30276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799160" y="5447520"/>
                <a:ext cx="674640" cy="851400"/>
                <a:chOff x="4799160" y="5447520"/>
                <a:chExt cx="674640" cy="851400"/>
              </a:xfrm>
            </p:grpSpPr>
            <p:sp>
              <p:nvSpPr>
                <p:cNvPr id="82" name=""/>
                <p:cNvSpPr/>
                <p:nvPr/>
              </p:nvSpPr>
              <p:spPr>
                <a:xfrm rot="14079600">
                  <a:off x="4720680" y="570384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4079600">
                  <a:off x="4802040" y="548856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4079600">
                  <a:off x="5117040" y="594828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957200" y="5295960"/>
                <a:ext cx="742320" cy="802440"/>
                <a:chOff x="4957200" y="5295960"/>
                <a:chExt cx="742320" cy="802440"/>
              </a:xfrm>
            </p:grpSpPr>
            <p:sp>
              <p:nvSpPr>
                <p:cNvPr id="86" name=""/>
                <p:cNvSpPr/>
                <p:nvPr/>
              </p:nvSpPr>
              <p:spPr>
                <a:xfrm rot="13689000">
                  <a:off x="4908960" y="5529240"/>
                  <a:ext cx="64764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3689000">
                  <a:off x="4963320" y="5335200"/>
                  <a:ext cx="14256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3689000">
                  <a:off x="5340240" y="5745960"/>
                  <a:ext cx="30276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50960" y="4804200"/>
                <a:ext cx="874080" cy="630000"/>
                <a:chOff x="5250960" y="4804200"/>
                <a:chExt cx="874080" cy="630000"/>
              </a:xfrm>
            </p:grpSpPr>
            <p:sp>
              <p:nvSpPr>
                <p:cNvPr id="90" name=""/>
                <p:cNvSpPr/>
                <p:nvPr/>
              </p:nvSpPr>
              <p:spPr>
                <a:xfrm rot="12662400">
                  <a:off x="5264640" y="496116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2662400">
                  <a:off x="5261400" y="483516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2662400">
                  <a:off x="5769360" y="5089320"/>
                  <a:ext cx="303120" cy="2869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834640" y="4112640"/>
                <a:ext cx="988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laskörp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lbzyli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1680" y="4258800"/>
                <a:ext cx="13467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chtqu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sition veränderb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3644640" y="5800680"/>
                <a:ext cx="287640" cy="910440"/>
                <a:chOff x="3644640" y="5800680"/>
                <a:chExt cx="287640" cy="910440"/>
              </a:xfrm>
            </p:grpSpPr>
            <p:sp>
              <p:nvSpPr>
                <p:cNvPr id="96" name=""/>
                <p:cNvSpPr/>
                <p:nvPr/>
              </p:nvSpPr>
              <p:spPr>
                <a:xfrm rot="16200000">
                  <a:off x="3465360" y="6100560"/>
                  <a:ext cx="64764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6200000">
                  <a:off x="3720240" y="5831280"/>
                  <a:ext cx="14256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6200000">
                  <a:off x="3637080" y="6415920"/>
                  <a:ext cx="30276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99" name=""/>
          <p:cNvGraphicFramePr/>
          <p:nvPr/>
        </p:nvGraphicFramePr>
        <p:xfrm>
          <a:off x="549360" y="4448160"/>
          <a:ext cx="1584360" cy="23004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H="1" flipV="1">
            <a:off x="3162600" y="2293920"/>
            <a:ext cx="615600" cy="169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610360" y="2601000"/>
            <a:ext cx="1157400" cy="1379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217240" y="3094560"/>
            <a:ext cx="155916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98720" y="39924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12560" y="4007880"/>
            <a:ext cx="1559160" cy="9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3280" y="7794000"/>
            <a:ext cx="347040" cy="41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360080" y="8525520"/>
            <a:ext cx="1216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17600" y="7886880"/>
            <a:ext cx="692640" cy="82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877760" y="8346600"/>
            <a:ext cx="716400" cy="6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62520" y="8353800"/>
            <a:ext cx="286560" cy="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11080" y="8349120"/>
            <a:ext cx="675360" cy="24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97160" y="756432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39840" y="79311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57480" y="83610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096440" y="7465320"/>
            <a:ext cx="542520" cy="4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3720" y="81216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3720" y="8048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6160" y="7819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38480" y="81867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56120" y="86166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95360" y="7655760"/>
            <a:ext cx="93600" cy="53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55:02Z</dcterms:modified>
  <cp:revision>65</cp:revision>
  <dc:subject/>
  <dc:title>Folie 1</dc:title>
</cp:coreProperties>
</file>