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0EB5-5D71-4C1A-B396-B1F49E7F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6128-3973-4046-B186-A355F147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9580-2F53-4555-8D82-1134D179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82F2-6A3C-4C02-BD6E-34BCBCC4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4C6C-572B-43EA-8067-FDF9F7BB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FF87-D22D-40E5-91EF-C80850E7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0BB7-B317-44F7-A414-E3314B29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8FA3-3A88-448B-BEBB-F45B00A2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68ED-98CE-49B4-A4D9-45A1D296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4012-45CD-4507-A729-9918EA9B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5D50-D00F-4F1C-B49E-07B3A563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65BC-108F-441B-A3AB-3236F353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0C4C-01B0-4D6F-9AE3-AA9DDE5F5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713040" y="7746840"/>
            <a:ext cx="2160720" cy="200664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 rot="1200000">
            <a:off x="3644640" y="8265960"/>
            <a:ext cx="21564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 flipH="1">
            <a:off x="3817800" y="8213760"/>
            <a:ext cx="1682640" cy="97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9800000">
            <a:off x="5516280" y="8048520"/>
            <a:ext cx="431640" cy="2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3854520" y="8275680"/>
            <a:ext cx="1682640" cy="97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886200" y="8331480"/>
            <a:ext cx="1682640" cy="97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9360" y="7545240"/>
            <a:ext cx="5759280" cy="228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0440" y="7545240"/>
            <a:ext cx="137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ktionswei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9360" y="81216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9360" y="84805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9360" y="884088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9360" y="92012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9360" y="95616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13360" y="7578720"/>
            <a:ext cx="12240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7578720"/>
            <a:ext cx="1295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16280" y="7867800"/>
            <a:ext cx="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56320" y="7867800"/>
            <a:ext cx="0" cy="19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44640" y="560520"/>
            <a:ext cx="3336840" cy="36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79480" y="646200"/>
            <a:ext cx="33415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e funktioniert ein Rauchmelder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8640" y="1074600"/>
            <a:ext cx="58485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TSF</cp:lastModifiedBy>
  <dcterms:modified xsi:type="dcterms:W3CDTF">2013-02-16T07:05:28Z</dcterms:modified>
  <cp:revision>73</cp:revision>
  <dc:subject/>
  <dc:title>Folie 1</dc:title>
</cp:coreProperties>
</file>