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EEE-3A2E-4F85-A148-BC2A0B1D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12E-2AFD-4B90-8CB8-3AD4E98B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666-3411-407A-8DE9-BE325C23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3B8-45E4-41AB-B6AE-F5E3131B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13D-4C5C-4B28-8598-D7E294C0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74E-3024-4A9B-B0E6-357E2281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6FD-0721-4C30-A050-54947AE1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EA1-E1A7-47E1-B9EC-A216992B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385-1CB9-41DB-BCFF-5BB623A0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0C1-4851-437E-AA0A-1DEBB78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11E-2ADE-4DDA-9A4B-734A2E7A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2D2-0CEA-4B28-A281-2EEDDB7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2F46-9695-4703-9AC0-12CE79AC3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130800" y="2581200"/>
            <a:ext cx="71640" cy="71640"/>
          </a:xfrm>
          <a:prstGeom prst="ellipse">
            <a:avLst/>
          </a:prstGeom>
          <a:solidFill>
            <a:srgbClr val="c0c0c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135840" y="24922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52640" y="2570040"/>
            <a:ext cx="71640" cy="71640"/>
          </a:xfrm>
          <a:prstGeom prst="ellipse">
            <a:avLst/>
          </a:prstGeom>
          <a:solidFill>
            <a:srgbClr val="c0c0c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7680" y="24811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2080" y="992160"/>
            <a:ext cx="3022560" cy="34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96920" y="1065240"/>
            <a:ext cx="3000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ösungen (1)  - Ebener Spieg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76280" y="2503440"/>
            <a:ext cx="679320" cy="1851120"/>
            <a:chOff x="476280" y="2503440"/>
            <a:chExt cx="679320" cy="1851120"/>
          </a:xfrm>
        </p:grpSpPr>
        <p:sp>
          <p:nvSpPr>
            <p:cNvPr id="46" name=""/>
            <p:cNvSpPr/>
            <p:nvPr/>
          </p:nvSpPr>
          <p:spPr>
            <a:xfrm flipV="1">
              <a:off x="939960" y="3070440"/>
              <a:ext cx="2156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33320" y="3939840"/>
              <a:ext cx="3672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2800" y="3502080"/>
              <a:ext cx="61920" cy="4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12800" y="2860560"/>
              <a:ext cx="475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6480" y="2503440"/>
              <a:ext cx="263520" cy="36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4480" y="3135240"/>
              <a:ext cx="1954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4480" y="3149640"/>
              <a:ext cx="169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16200" y="3297240"/>
              <a:ext cx="1537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68440" y="3909960"/>
              <a:ext cx="98280" cy="40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66360" y="3527640"/>
              <a:ext cx="428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1520" y="4238640"/>
              <a:ext cx="24588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6280" y="4273560"/>
              <a:ext cx="24624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3280" y="2743200"/>
              <a:ext cx="114120" cy="2880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cubicBezTo>
                    <a:pt x="25" y="17"/>
                    <a:pt x="42" y="18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9120" y="2576520"/>
              <a:ext cx="69840" cy="69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6"/>
                  </a:moveTo>
                  <a:cubicBezTo>
                    <a:pt x="21" y="13"/>
                    <a:pt x="12" y="14"/>
                    <a:pt x="27" y="9"/>
                  </a:cubicBezTo>
                  <a:cubicBezTo>
                    <a:pt x="13" y="0"/>
                    <a:pt x="22" y="2"/>
                    <a:pt x="0" y="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04640" y="4376880"/>
            <a:ext cx="251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5160" y="2428920"/>
            <a:ext cx="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280" y="1784520"/>
            <a:ext cx="1224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58800" y="2073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ie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1960" y="261000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57240" y="261144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040" y="2610000"/>
            <a:ext cx="2147760" cy="1114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838080" y="2295360"/>
            <a:ext cx="2043360" cy="314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7920" y="3800520"/>
            <a:ext cx="21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e Person sieht den Kopf mit dem gesamten Oberkörper bis auf ca. die Mitte des Oberschenke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787920" y="2506680"/>
            <a:ext cx="679320" cy="1851120"/>
            <a:chOff x="3787920" y="2506680"/>
            <a:chExt cx="679320" cy="1851120"/>
          </a:xfrm>
        </p:grpSpPr>
        <p:sp>
          <p:nvSpPr>
            <p:cNvPr id="70" name=""/>
            <p:cNvSpPr/>
            <p:nvPr/>
          </p:nvSpPr>
          <p:spPr>
            <a:xfrm flipV="1">
              <a:off x="4251600" y="3073680"/>
              <a:ext cx="2156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044960" y="3943080"/>
              <a:ext cx="3672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24440" y="3505320"/>
              <a:ext cx="61920" cy="4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024440" y="2863800"/>
              <a:ext cx="475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48120" y="2506680"/>
              <a:ext cx="263520" cy="36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56120" y="3138480"/>
              <a:ext cx="1954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56120" y="3152880"/>
              <a:ext cx="169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27840" y="3300480"/>
              <a:ext cx="1537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880080" y="3913200"/>
              <a:ext cx="98280" cy="40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978000" y="3530880"/>
              <a:ext cx="428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53160" y="4241880"/>
              <a:ext cx="24588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7920" y="4276800"/>
              <a:ext cx="24624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4920" y="2746440"/>
              <a:ext cx="114120" cy="2880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cubicBezTo>
                    <a:pt x="25" y="17"/>
                    <a:pt x="42" y="18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00760" y="2579760"/>
              <a:ext cx="69840" cy="69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6"/>
                  </a:moveTo>
                  <a:cubicBezTo>
                    <a:pt x="21" y="13"/>
                    <a:pt x="12" y="14"/>
                    <a:pt x="27" y="9"/>
                  </a:cubicBezTo>
                  <a:cubicBezTo>
                    <a:pt x="13" y="0"/>
                    <a:pt x="22" y="2"/>
                    <a:pt x="0" y="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645000" y="4376880"/>
            <a:ext cx="25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90760" y="2579760"/>
            <a:ext cx="85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e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vergröße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60640" y="2484360"/>
            <a:ext cx="43200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03560" y="2341440"/>
            <a:ext cx="14472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51600" y="2227320"/>
            <a:ext cx="0" cy="21477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2440" y="200016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61612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60960" y="261936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143240" y="2343240"/>
            <a:ext cx="2014560" cy="27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176360" y="2614680"/>
            <a:ext cx="1986120" cy="169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6560" y="2486160"/>
            <a:ext cx="0" cy="9889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9360" y="4954680"/>
            <a:ext cx="59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22080" y="5745240"/>
            <a:ext cx="5759640" cy="1873080"/>
            <a:chOff x="622080" y="5745240"/>
            <a:chExt cx="5759640" cy="1873080"/>
          </a:xfrm>
        </p:grpSpPr>
        <p:sp>
          <p:nvSpPr>
            <p:cNvPr id="97" name=""/>
            <p:cNvSpPr/>
            <p:nvPr/>
          </p:nvSpPr>
          <p:spPr>
            <a:xfrm>
              <a:off x="622440" y="5746680"/>
              <a:ext cx="575928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6208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208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08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208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172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230480" y="6860160"/>
              <a:ext cx="510120" cy="5101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230480" y="5995080"/>
              <a:ext cx="510120" cy="5101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720" y="70423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25360" y="7042320"/>
              <a:ext cx="3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713680" y="6861960"/>
              <a:ext cx="509760" cy="5097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76560" y="704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08200" y="7043760"/>
              <a:ext cx="3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42480" y="5923800"/>
              <a:ext cx="509760" cy="5097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440" y="6321600"/>
              <a:ext cx="0" cy="7207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933720" y="6323040"/>
              <a:ext cx="720720" cy="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075920" y="6882480"/>
              <a:ext cx="35712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08040" y="6699240"/>
              <a:ext cx="40752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540400" y="6926400"/>
              <a:ext cx="6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67240" y="69264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078880" y="6328440"/>
              <a:ext cx="690480" cy="675000"/>
              <a:chOff x="5078880" y="6328440"/>
              <a:chExt cx="690480" cy="675000"/>
            </a:xfrm>
          </p:grpSpPr>
          <p:sp>
            <p:nvSpPr>
              <p:cNvPr id="119" name=""/>
              <p:cNvSpPr/>
              <p:nvPr/>
            </p:nvSpPr>
            <p:spPr>
              <a:xfrm flipH="1" flipV="1">
                <a:off x="5078880" y="6340320"/>
                <a:ext cx="282960" cy="6631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5100480" y="6328440"/>
                <a:ext cx="668880" cy="2689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94316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503360" y="6276600"/>
              <a:ext cx="0" cy="76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800" y="62816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38360" y="62816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986200" y="621936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133720" y="6219720"/>
              <a:ext cx="8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490480" y="621972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73920" y="6357600"/>
              <a:ext cx="34200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672000" y="6355440"/>
              <a:ext cx="598680" cy="59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866760" y="6653160"/>
              <a:ext cx="10476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362200" y="6596280"/>
              <a:ext cx="3207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86560" y="6600960"/>
              <a:ext cx="468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91240" y="7172280"/>
              <a:ext cx="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81000" y="761832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240" y="8265960"/>
            <a:ext cx="1102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isk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02080" y="761832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41720" y="8265960"/>
            <a:ext cx="18003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inkelspie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inkelspiegel werden in der Vermessungs-technik zum Einmessen von zwei Flächen ver-we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0640" y="761832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3880" y="8265960"/>
            <a:ext cx="1102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flek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3-20T11:44:39Z</dcterms:modified>
  <cp:revision>46</cp:revision>
  <dc:subject/>
  <dc:title>Folie 1</dc:title>
</cp:coreProperties>
</file>