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559675" cy="10691813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E48-2F46-4353-B8DA-7EC64271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EBD-05AE-4D60-8C15-774E1D92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F18-34A2-4FBF-975A-9A6AC6A2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FA5-1EC1-466C-A066-7D946764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6A4-25DE-43FF-9408-2D95E8F2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AAC-FA74-438B-8996-AC250BC8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C63-33C1-4F30-8FAB-B5430237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B5A-FF47-400F-A27E-EF1C1727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760"/>
            <a:ext cx="6805440" cy="82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61F-CE79-42C2-94BC-80F31B86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312-AE25-4FF0-BBA2-50C1A342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CBB-00EF-4B4A-87BF-65EFEB98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D35-B2CF-4799-ACAF-7226206B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760"/>
            <a:ext cx="6805440" cy="1782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7640"/>
            <a:ext cx="176508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737640"/>
            <a:ext cx="239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7640"/>
            <a:ext cx="1765440" cy="741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18A6-5E85-4584-A2BE-C3F5A9D73E73}" type="slidenum">
              <a:rPr b="0" lang="de-DE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9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 rot="7264800">
            <a:off x="1043640" y="77173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Jo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600200" y="4648320"/>
            <a:ext cx="39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ßeinheit der Wä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209680" y="9753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273,15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 rot="7228800">
            <a:off x="48960" y="7797240"/>
            <a:ext cx="48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Wärmestr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 rot="14251800">
            <a:off x="1928520" y="241380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 rot="14267400">
            <a:off x="2538000" y="776232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ser hat seine größte Dichte be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612720" y="540072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 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7254600">
            <a:off x="6120" y="2811240"/>
            <a:ext cx="46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4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14267400">
            <a:off x="2191320" y="7768800"/>
            <a:ext cx="512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ßeinheit der Wärmekapaz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ö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 rot="7254600">
            <a:off x="608040" y="2771280"/>
            <a:ext cx="36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kJ/(kg·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 rot="14267400">
            <a:off x="2426400" y="7731720"/>
            <a:ext cx="45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0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609480" y="54864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 rot="7356600">
            <a:off x="1064160" y="79246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0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4600" y="4699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 o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 rot="14267400">
            <a:off x="2392200" y="7858440"/>
            <a:ext cx="50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Basiseinheit der Temper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 rot="18141000">
            <a:off x="156240" y="29037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Beispiel für Konvek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 rot="3514200">
            <a:off x="3014640" y="2903760"/>
            <a:ext cx="40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Calibri"/>
              </a:rPr>
              <a:t>Wasser verdampft be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12720" y="541800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 rot="7356600">
            <a:off x="291960" y="7745040"/>
            <a:ext cx="42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676520" y="464832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damp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 rot="14267400">
            <a:off x="1910520" y="7958520"/>
            <a:ext cx="53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welche Richtung bewegt sich der Bimetallstrei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 rot="3513000">
            <a:off x="2051640" y="2671200"/>
            <a:ext cx="54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ser gefriert be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uppieren 19"/>
          <p:cNvGrpSpPr/>
          <p:nvPr/>
        </p:nvGrpSpPr>
        <p:grpSpPr>
          <a:xfrm>
            <a:off x="3263400" y="6019920"/>
            <a:ext cx="1318680" cy="1495800"/>
            <a:chOff x="3263400" y="6019920"/>
            <a:chExt cx="1318680" cy="1495800"/>
          </a:xfrm>
        </p:grpSpPr>
        <p:grpSp>
          <p:nvGrpSpPr>
            <p:cNvPr id="82" name="Gruppieren 6"/>
            <p:cNvGrpSpPr/>
            <p:nvPr/>
          </p:nvGrpSpPr>
          <p:grpSpPr>
            <a:xfrm>
              <a:off x="3263400" y="6019920"/>
              <a:ext cx="1318680" cy="1495800"/>
              <a:chOff x="3263400" y="6019920"/>
              <a:chExt cx="1318680" cy="1495800"/>
            </a:xfrm>
          </p:grpSpPr>
          <p:grpSp>
            <p:nvGrpSpPr>
              <p:cNvPr id="83" name="Gruppieren 3"/>
              <p:cNvGrpSpPr/>
              <p:nvPr/>
            </p:nvGrpSpPr>
            <p:grpSpPr>
              <a:xfrm>
                <a:off x="3658680" y="6486480"/>
                <a:ext cx="492840" cy="634680"/>
                <a:chOff x="3658680" y="6486480"/>
                <a:chExt cx="492840" cy="634680"/>
              </a:xfrm>
            </p:grpSpPr>
            <p:sp>
              <p:nvSpPr>
                <p:cNvPr id="84" name="Rechteck 2"/>
                <p:cNvSpPr/>
                <p:nvPr/>
              </p:nvSpPr>
              <p:spPr>
                <a:xfrm rot="14190600">
                  <a:off x="3542400" y="6787800"/>
                  <a:ext cx="658440" cy="75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rmAutofit/>
                </a:bodyPr>
                <a:p>
                  <a:pPr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hteck 10"/>
                <p:cNvSpPr/>
                <p:nvPr/>
              </p:nvSpPr>
              <p:spPr>
                <a:xfrm rot="14190600">
                  <a:off x="3609000" y="6743880"/>
                  <a:ext cx="658440" cy="75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rmAutofit/>
                </a:bodyPr>
                <a:p>
                  <a:pPr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Textfeld 4"/>
              <p:cNvSpPr/>
              <p:nvPr/>
            </p:nvSpPr>
            <p:spPr>
              <a:xfrm rot="14190600">
                <a:off x="3093120" y="6722640"/>
                <a:ext cx="133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Aluminiu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feld 5"/>
              <p:cNvSpPr/>
              <p:nvPr/>
            </p:nvSpPr>
            <p:spPr>
              <a:xfrm rot="14190600">
                <a:off x="3421800" y="6505560"/>
                <a:ext cx="133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Kupf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uppieren 18"/>
            <p:cNvGrpSpPr/>
            <p:nvPr/>
          </p:nvGrpSpPr>
          <p:grpSpPr>
            <a:xfrm>
              <a:off x="3820680" y="6344280"/>
              <a:ext cx="244440" cy="201600"/>
              <a:chOff x="3820680" y="6344280"/>
              <a:chExt cx="244440" cy="201600"/>
            </a:xfrm>
          </p:grpSpPr>
          <p:sp>
            <p:nvSpPr>
              <p:cNvPr id="89" name="Rechteck 7"/>
              <p:cNvSpPr/>
              <p:nvPr/>
            </p:nvSpPr>
            <p:spPr>
              <a:xfrm rot="14190600">
                <a:off x="3917160" y="6358320"/>
                <a:ext cx="112680" cy="145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ihandform 17"/>
              <p:cNvSpPr/>
              <p:nvPr/>
            </p:nvSpPr>
            <p:spPr>
              <a:xfrm rot="14190600">
                <a:off x="3837600" y="6445440"/>
                <a:ext cx="82080" cy="85320"/>
              </a:xfrm>
              <a:custGeom>
                <a:avLst/>
                <a:gdLst/>
                <a:ahLst/>
                <a:rect l="l" t="t" r="r" b="b"/>
                <a:pathLst>
                  <a:path w="219693" h="338447">
                    <a:moveTo>
                      <a:pt x="41563" y="338447"/>
                    </a:moveTo>
                    <a:cubicBezTo>
                      <a:pt x="35626" y="328551"/>
                      <a:pt x="28912" y="319081"/>
                      <a:pt x="23751" y="308759"/>
                    </a:cubicBezTo>
                    <a:cubicBezTo>
                      <a:pt x="8336" y="277927"/>
                      <a:pt x="29132" y="302266"/>
                      <a:pt x="5938" y="279070"/>
                    </a:cubicBezTo>
                    <a:cubicBezTo>
                      <a:pt x="3959" y="257299"/>
                      <a:pt x="0" y="235617"/>
                      <a:pt x="0" y="213756"/>
                    </a:cubicBezTo>
                    <a:cubicBezTo>
                      <a:pt x="0" y="185976"/>
                      <a:pt x="2692" y="158218"/>
                      <a:pt x="5938" y="130629"/>
                    </a:cubicBezTo>
                    <a:cubicBezTo>
                      <a:pt x="6669" y="124413"/>
                      <a:pt x="8655" y="118183"/>
                      <a:pt x="11875" y="112816"/>
                    </a:cubicBezTo>
                    <a:cubicBezTo>
                      <a:pt x="14755" y="108015"/>
                      <a:pt x="20254" y="105312"/>
                      <a:pt x="23751" y="100940"/>
                    </a:cubicBezTo>
                    <a:cubicBezTo>
                      <a:pt x="28209" y="95368"/>
                      <a:pt x="29575" y="86909"/>
                      <a:pt x="35626" y="83127"/>
                    </a:cubicBezTo>
                    <a:cubicBezTo>
                      <a:pt x="46241" y="76493"/>
                      <a:pt x="60837" y="78195"/>
                      <a:pt x="71252" y="71252"/>
                    </a:cubicBezTo>
                    <a:cubicBezTo>
                      <a:pt x="93723" y="56272"/>
                      <a:pt x="84019" y="64423"/>
                      <a:pt x="100940" y="47501"/>
                    </a:cubicBezTo>
                    <a:cubicBezTo>
                      <a:pt x="114585" y="6564"/>
                      <a:pt x="103963" y="20726"/>
                      <a:pt x="124691" y="0"/>
                    </a:cubicBezTo>
                    <a:cubicBezTo>
                      <a:pt x="128301" y="21664"/>
                      <a:pt x="123625" y="36174"/>
                      <a:pt x="142504" y="47501"/>
                    </a:cubicBezTo>
                    <a:cubicBezTo>
                      <a:pt x="147871" y="50721"/>
                      <a:pt x="154379" y="51460"/>
                      <a:pt x="160317" y="53439"/>
                    </a:cubicBezTo>
                    <a:cubicBezTo>
                      <a:pt x="162296" y="59377"/>
                      <a:pt x="163034" y="65885"/>
                      <a:pt x="166254" y="71252"/>
                    </a:cubicBezTo>
                    <a:cubicBezTo>
                      <a:pt x="169134" y="76052"/>
                      <a:pt x="175626" y="78120"/>
                      <a:pt x="178130" y="83127"/>
                    </a:cubicBezTo>
                    <a:cubicBezTo>
                      <a:pt x="183728" y="94323"/>
                      <a:pt x="186047" y="106878"/>
                      <a:pt x="190005" y="118753"/>
                    </a:cubicBezTo>
                    <a:lnTo>
                      <a:pt x="201880" y="154379"/>
                    </a:lnTo>
                    <a:cubicBezTo>
                      <a:pt x="203859" y="160317"/>
                      <a:pt x="206300" y="166120"/>
                      <a:pt x="207818" y="172192"/>
                    </a:cubicBezTo>
                    <a:cubicBezTo>
                      <a:pt x="215274" y="202015"/>
                      <a:pt x="211176" y="188201"/>
                      <a:pt x="219693" y="213756"/>
                    </a:cubicBezTo>
                    <a:cubicBezTo>
                      <a:pt x="217714" y="227611"/>
                      <a:pt x="215391" y="241421"/>
                      <a:pt x="213756" y="255320"/>
                    </a:cubicBezTo>
                    <a:cubicBezTo>
                      <a:pt x="211432" y="275074"/>
                      <a:pt x="207818" y="314696"/>
                      <a:pt x="207818" y="314696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Gerader Verbinder 9"/>
              <p:cNvSpPr/>
              <p:nvPr/>
            </p:nvSpPr>
            <p:spPr>
              <a:xfrm flipH="1">
                <a:off x="3877560" y="6463800"/>
                <a:ext cx="30600" cy="2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612720" y="378000"/>
            <a:ext cx="6048360" cy="490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197080" y="9810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tkol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676520" y="464832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dens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 rot="14267400">
            <a:off x="2266560" y="776916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ung der Wärmem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 rot="7295400">
            <a:off x="370080" y="7732080"/>
            <a:ext cx="430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wandlung von gasförmig in flü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 rot="14267400">
            <a:off x="2009160" y="2894400"/>
            <a:ext cx="53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welche Richtung bewegt sich der Bimetallstrei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uppieren 11"/>
          <p:cNvGrpSpPr/>
          <p:nvPr/>
        </p:nvGrpSpPr>
        <p:grpSpPr>
          <a:xfrm>
            <a:off x="3380400" y="1042920"/>
            <a:ext cx="1318320" cy="1496160"/>
            <a:chOff x="3380400" y="1042920"/>
            <a:chExt cx="1318320" cy="1496160"/>
          </a:xfrm>
        </p:grpSpPr>
        <p:grpSp>
          <p:nvGrpSpPr>
            <p:cNvPr id="101" name="Gruppieren 12"/>
            <p:cNvGrpSpPr/>
            <p:nvPr/>
          </p:nvGrpSpPr>
          <p:grpSpPr>
            <a:xfrm>
              <a:off x="3380400" y="1042920"/>
              <a:ext cx="1318320" cy="1496160"/>
              <a:chOff x="3380400" y="1042920"/>
              <a:chExt cx="1318320" cy="1496160"/>
            </a:xfrm>
          </p:grpSpPr>
          <p:grpSp>
            <p:nvGrpSpPr>
              <p:cNvPr id="102" name="Gruppieren 17"/>
              <p:cNvGrpSpPr/>
              <p:nvPr/>
            </p:nvGrpSpPr>
            <p:grpSpPr>
              <a:xfrm>
                <a:off x="3814920" y="1482840"/>
                <a:ext cx="492840" cy="635040"/>
                <a:chOff x="3814920" y="1482840"/>
                <a:chExt cx="492840" cy="635040"/>
              </a:xfrm>
            </p:grpSpPr>
            <p:sp>
              <p:nvSpPr>
                <p:cNvPr id="103" name="Rechteck 20"/>
                <p:cNvSpPr/>
                <p:nvPr/>
              </p:nvSpPr>
              <p:spPr>
                <a:xfrm rot="14190600">
                  <a:off x="3698640" y="1784520"/>
                  <a:ext cx="658440" cy="75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rmAutofit/>
                </a:bodyPr>
                <a:p>
                  <a:pPr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hteck 21"/>
                <p:cNvSpPr/>
                <p:nvPr/>
              </p:nvSpPr>
              <p:spPr>
                <a:xfrm rot="14190600">
                  <a:off x="3765240" y="1740240"/>
                  <a:ext cx="658440" cy="75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rmAutofit/>
                </a:bodyPr>
                <a:p>
                  <a:pPr>
                    <a:tabLst>
                      <a:tab algn="l" pos="0"/>
                      <a:tab algn="l" pos="995400"/>
                      <a:tab algn="l" pos="1990800"/>
                      <a:tab algn="l" pos="2986200"/>
                      <a:tab algn="l" pos="3981600"/>
                      <a:tab algn="l" pos="4976640"/>
                      <a:tab algn="l" pos="5972040"/>
                      <a:tab algn="l" pos="6967440"/>
                      <a:tab algn="l" pos="7962840"/>
                      <a:tab algn="l" pos="8958240"/>
                      <a:tab algn="l" pos="9953640"/>
                      <a:tab algn="l" pos="1094904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feld 18"/>
              <p:cNvSpPr/>
              <p:nvPr/>
            </p:nvSpPr>
            <p:spPr>
              <a:xfrm rot="14190600">
                <a:off x="3209760" y="1745640"/>
                <a:ext cx="133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tah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feld 19"/>
              <p:cNvSpPr/>
              <p:nvPr/>
            </p:nvSpPr>
            <p:spPr>
              <a:xfrm rot="14190600">
                <a:off x="3538080" y="1528560"/>
                <a:ext cx="133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Mes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uppieren 13"/>
            <p:cNvGrpSpPr/>
            <p:nvPr/>
          </p:nvGrpSpPr>
          <p:grpSpPr>
            <a:xfrm>
              <a:off x="3976920" y="1341360"/>
              <a:ext cx="244080" cy="201240"/>
              <a:chOff x="3976920" y="1341360"/>
              <a:chExt cx="244080" cy="201240"/>
            </a:xfrm>
          </p:grpSpPr>
          <p:sp>
            <p:nvSpPr>
              <p:cNvPr id="108" name="Rechteck 14"/>
              <p:cNvSpPr/>
              <p:nvPr/>
            </p:nvSpPr>
            <p:spPr>
              <a:xfrm rot="14190600">
                <a:off x="4073040" y="1355400"/>
                <a:ext cx="112680" cy="145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95400"/>
                    <a:tab algn="l" pos="1990800"/>
                    <a:tab algn="l" pos="2986200"/>
                    <a:tab algn="l" pos="3981600"/>
                    <a:tab algn="l" pos="4976640"/>
                    <a:tab algn="l" pos="5972040"/>
                    <a:tab algn="l" pos="6967440"/>
                    <a:tab algn="l" pos="7962840"/>
                    <a:tab algn="l" pos="8958240"/>
                    <a:tab algn="l" pos="9953640"/>
                    <a:tab algn="l" pos="109490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ihandform 15"/>
              <p:cNvSpPr/>
              <p:nvPr/>
            </p:nvSpPr>
            <p:spPr>
              <a:xfrm rot="14190600">
                <a:off x="3993840" y="1442160"/>
                <a:ext cx="82080" cy="85320"/>
              </a:xfrm>
              <a:custGeom>
                <a:avLst/>
                <a:gdLst/>
                <a:ahLst/>
                <a:rect l="l" t="t" r="r" b="b"/>
                <a:pathLst>
                  <a:path w="219693" h="338447">
                    <a:moveTo>
                      <a:pt x="41563" y="338447"/>
                    </a:moveTo>
                    <a:cubicBezTo>
                      <a:pt x="35626" y="328551"/>
                      <a:pt x="28912" y="319081"/>
                      <a:pt x="23751" y="308759"/>
                    </a:cubicBezTo>
                    <a:cubicBezTo>
                      <a:pt x="8336" y="277927"/>
                      <a:pt x="29132" y="302266"/>
                      <a:pt x="5938" y="279070"/>
                    </a:cubicBezTo>
                    <a:cubicBezTo>
                      <a:pt x="3959" y="257299"/>
                      <a:pt x="0" y="235617"/>
                      <a:pt x="0" y="213756"/>
                    </a:cubicBezTo>
                    <a:cubicBezTo>
                      <a:pt x="0" y="185976"/>
                      <a:pt x="2692" y="158218"/>
                      <a:pt x="5938" y="130629"/>
                    </a:cubicBezTo>
                    <a:cubicBezTo>
                      <a:pt x="6669" y="124413"/>
                      <a:pt x="8655" y="118183"/>
                      <a:pt x="11875" y="112816"/>
                    </a:cubicBezTo>
                    <a:cubicBezTo>
                      <a:pt x="14755" y="108015"/>
                      <a:pt x="20254" y="105312"/>
                      <a:pt x="23751" y="100940"/>
                    </a:cubicBezTo>
                    <a:cubicBezTo>
                      <a:pt x="28209" y="95368"/>
                      <a:pt x="29575" y="86909"/>
                      <a:pt x="35626" y="83127"/>
                    </a:cubicBezTo>
                    <a:cubicBezTo>
                      <a:pt x="46241" y="76493"/>
                      <a:pt x="60837" y="78195"/>
                      <a:pt x="71252" y="71252"/>
                    </a:cubicBezTo>
                    <a:cubicBezTo>
                      <a:pt x="93723" y="56272"/>
                      <a:pt x="84019" y="64423"/>
                      <a:pt x="100940" y="47501"/>
                    </a:cubicBezTo>
                    <a:cubicBezTo>
                      <a:pt x="114585" y="6564"/>
                      <a:pt x="103963" y="20726"/>
                      <a:pt x="124691" y="0"/>
                    </a:cubicBezTo>
                    <a:cubicBezTo>
                      <a:pt x="128301" y="21664"/>
                      <a:pt x="123625" y="36174"/>
                      <a:pt x="142504" y="47501"/>
                    </a:cubicBezTo>
                    <a:cubicBezTo>
                      <a:pt x="147871" y="50721"/>
                      <a:pt x="154379" y="51460"/>
                      <a:pt x="160317" y="53439"/>
                    </a:cubicBezTo>
                    <a:cubicBezTo>
                      <a:pt x="162296" y="59377"/>
                      <a:pt x="163034" y="65885"/>
                      <a:pt x="166254" y="71252"/>
                    </a:cubicBezTo>
                    <a:cubicBezTo>
                      <a:pt x="169134" y="76052"/>
                      <a:pt x="175626" y="78120"/>
                      <a:pt x="178130" y="83127"/>
                    </a:cubicBezTo>
                    <a:cubicBezTo>
                      <a:pt x="183728" y="94323"/>
                      <a:pt x="186047" y="106878"/>
                      <a:pt x="190005" y="118753"/>
                    </a:cubicBezTo>
                    <a:lnTo>
                      <a:pt x="201880" y="154379"/>
                    </a:lnTo>
                    <a:cubicBezTo>
                      <a:pt x="203859" y="160317"/>
                      <a:pt x="206300" y="166120"/>
                      <a:pt x="207818" y="172192"/>
                    </a:cubicBezTo>
                    <a:cubicBezTo>
                      <a:pt x="215274" y="202015"/>
                      <a:pt x="211176" y="188201"/>
                      <a:pt x="219693" y="213756"/>
                    </a:cubicBezTo>
                    <a:cubicBezTo>
                      <a:pt x="217714" y="227611"/>
                      <a:pt x="215391" y="241421"/>
                      <a:pt x="213756" y="255320"/>
                    </a:cubicBezTo>
                    <a:cubicBezTo>
                      <a:pt x="211432" y="275074"/>
                      <a:pt x="207818" y="314696"/>
                      <a:pt x="207818" y="314696"/>
                    </a:cubicBez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Gerader Verbinder 16"/>
              <p:cNvSpPr/>
              <p:nvPr/>
            </p:nvSpPr>
            <p:spPr>
              <a:xfrm flipH="1">
                <a:off x="4036320" y="1455120"/>
                <a:ext cx="30240" cy="2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 rot="18908400">
            <a:off x="686880" y="3125520"/>
            <a:ext cx="172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609480" y="3808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609480" y="5410080"/>
            <a:ext cx="6048360" cy="490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 rot="3513000">
            <a:off x="3051720" y="2597760"/>
            <a:ext cx="325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wandlung von flüssig in gasförm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 rot="7295400">
            <a:off x="135720" y="779040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Wärmelei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 rot="18119400">
            <a:off x="6840" y="2813760"/>
            <a:ext cx="47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 = c · m · ∆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3:52:52Z</dcterms:created>
  <dc:creator>H.H.</dc:creator>
  <dc:description/>
  <dc:language>en-US</dc:language>
  <cp:lastModifiedBy>Dehlen, Ralf (LS)</cp:lastModifiedBy>
  <cp:lastPrinted>2014-02-10T10:33:56Z</cp:lastPrinted>
  <dcterms:modified xsi:type="dcterms:W3CDTF">2014-04-10T13:46:32Z</dcterms:modified>
  <cp:revision>22</cp:revision>
  <dc:subject/>
  <dc:title>Folie 1</dc:title>
</cp:coreProperties>
</file>