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6959-0C70-4680-85ED-97021929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1568-7F5E-4D27-8B42-657F39CD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324B-607A-4B95-A483-F1DCBC14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4727-8B01-47F1-B468-C734A1660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AE23-0B9B-4146-8ECC-EE21E3DD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C892-9D6E-4572-8B05-E384C3CE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B822-49C2-4E32-83AB-7B7C94BF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DCC9-E7C9-4C12-AFB7-2036F085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2CB8-0C56-40B7-921F-086B1DE4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8C35-4BCF-4AAB-8CF2-23577D71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E35F-2D31-4E61-BEAC-3537E814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92B9-C02F-4935-B273-A4E36DB0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D8B7-D51C-492E-9E3B-FA8B616FE2F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0"/>
          <p:cNvGrpSpPr/>
          <p:nvPr/>
        </p:nvGrpSpPr>
        <p:grpSpPr>
          <a:xfrm>
            <a:off x="549360" y="369720"/>
            <a:ext cx="5759280" cy="841680"/>
            <a:chOff x="549360" y="369720"/>
            <a:chExt cx="5759280" cy="841680"/>
          </a:xfrm>
        </p:grpSpPr>
        <p:sp>
          <p:nvSpPr>
            <p:cNvPr id="4" name=""/>
            <p:cNvSpPr/>
            <p:nvPr/>
          </p:nvSpPr>
          <p:spPr>
            <a:xfrm>
              <a:off x="549360" y="369720"/>
              <a:ext cx="1584360" cy="8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369720"/>
              <a:ext cx="2519280" cy="8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653000" y="369720"/>
              <a:ext cx="165564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ach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653000" y="579600"/>
              <a:ext cx="165564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m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653000" y="790560"/>
              <a:ext cx="16556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lasse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653000" y="1000080"/>
              <a:ext cx="165564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tum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13372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65300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653000" y="579600"/>
              <a:ext cx="165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653000" y="790560"/>
              <a:ext cx="165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53000" y="1000080"/>
              <a:ext cx="165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4936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30864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49360" y="369720"/>
              <a:ext cx="57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9360" y="1211400"/>
              <a:ext cx="57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Text Box 26"/>
          <p:cNvSpPr/>
          <p:nvPr/>
        </p:nvSpPr>
        <p:spPr>
          <a:xfrm>
            <a:off x="2340000" y="517680"/>
            <a:ext cx="21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r „Elektrospecht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ös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40" descr="Eletrospecht_Bild_ge"/>
          <p:cNvPicPr/>
          <p:nvPr/>
        </p:nvPicPr>
        <p:blipFill>
          <a:blip r:embed="rId1"/>
          <a:srcRect l="17716" t="10225" r="17716" b="0"/>
          <a:stretch/>
        </p:blipFill>
        <p:spPr>
          <a:xfrm>
            <a:off x="549360" y="1568520"/>
            <a:ext cx="1685880" cy="784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Text Box 91"/>
          <p:cNvSpPr/>
          <p:nvPr/>
        </p:nvSpPr>
        <p:spPr>
          <a:xfrm>
            <a:off x="692640" y="7616880"/>
            <a:ext cx="11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r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z.B. AA 1,5 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0"/>
          <p:cNvSpPr/>
          <p:nvPr/>
        </p:nvSpPr>
        <p:spPr>
          <a:xfrm>
            <a:off x="2781360" y="1568520"/>
            <a:ext cx="3527280" cy="62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fgab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ie verhält sich der „Elektrospecht“ wenn man kurzzeitig den Stromkreis schließ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Der „Elektrospecht“ fängt an sich zu bewe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fgab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elche Rolle spielt die Polung der Batteri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Der Magnet wird angezogen oder abgestoßen. Vertauscht man den Plus- und  Minusanschluss an der Batterie, so verändert sich die Kraft-richtung auf den Magne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fgab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läutere die Funktionswe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Der Draht ist kreisrund zu einer Spule gewickelt. Um stromdurchflossene Leiter und strom-durchflossene Spulen existieren Magnetfeld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Sobald Strom durch den kreisrund gewickelten Draht fließt bildet sich ein Magnetfeld aus, welches den Magneten anzieht oder abstöß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Ändert man die Stromrichtung, so dreht sich die abstoßende bzw. anziehende Wirkung auf den Magneten um. Das heißt, die Richtung des Magnetfeldes der Spule ist abhängig von der Stromrichtu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0:02:16Z</dcterms:created>
  <dc:creator>TSF</dc:creator>
  <dc:description/>
  <dc:language>en-US</dc:language>
  <cp:lastModifiedBy>Dehlen, Ralf (LS)</cp:lastModifiedBy>
  <dcterms:modified xsi:type="dcterms:W3CDTF">2014-02-27T17:25:27Z</dcterms:modified>
  <cp:revision>122</cp:revision>
  <dc:subject/>
  <dc:title>Folie 1</dc:title>
</cp:coreProperties>
</file>