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7559675" cy="10691813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192C-37D7-46D8-8CBD-16A0AF13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05BB-8220-49ED-A2C5-204E5AA0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308F-B527-4EB0-8E2A-40918E04F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76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88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76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88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3CC2-DB94-440C-8229-A5A8B47FF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3D59-D741-40CC-99E8-480000F9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73EA-322C-4F4F-92D7-CAC2BF4E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D7B4-C953-4673-B639-C9425B98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8D52-3074-42D8-A77A-5953A1BF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760"/>
            <a:ext cx="6805440" cy="82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9CE0-401D-4181-9635-CE7B0A6D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A066-5600-4B9C-B047-605AD30F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C8DB-4B2E-4691-A904-EF01EBDA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0393-E87C-48FE-8B23-083BBC51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110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43120" indent="-2491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737640"/>
            <a:ext cx="1765080" cy="741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3000" y="9737640"/>
            <a:ext cx="2395440" cy="741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8000" y="9737640"/>
            <a:ext cx="1765440" cy="741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3C32-88CE-4AD5-94BE-B6C0524D7CA0}" type="slidenum">
              <a:rPr b="0" lang="de-DE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9"/>
          <p:cNvSpPr/>
          <p:nvPr/>
        </p:nvSpPr>
        <p:spPr>
          <a:xfrm>
            <a:off x="612720" y="3780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0"/>
          <p:cNvSpPr/>
          <p:nvPr/>
        </p:nvSpPr>
        <p:spPr>
          <a:xfrm>
            <a:off x="612720" y="540072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 rot="7264800">
            <a:off x="1043640" y="77173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 Jo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1600200" y="4648320"/>
            <a:ext cx="39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ßeinheit der Wä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2209680" y="97534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-273,15 °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612720" y="3780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609480" y="54864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 rot="7228800">
            <a:off x="48960" y="7797240"/>
            <a:ext cx="483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spiel für Wärmestrah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197080" y="98107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el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 rot="14251800">
            <a:off x="1928520" y="2413800"/>
            <a:ext cx="534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on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 rot="14267400">
            <a:off x="2538000" y="7762320"/>
            <a:ext cx="45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sser hat seine größte Dichte be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"/>
          <p:cNvSpPr/>
          <p:nvPr/>
        </p:nvSpPr>
        <p:spPr>
          <a:xfrm>
            <a:off x="612720" y="3780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612720" y="540072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197080" y="98107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ach u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 rot="7254600">
            <a:off x="6120" y="2811240"/>
            <a:ext cx="46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4 °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 rot="14267400">
            <a:off x="2191320" y="7768800"/>
            <a:ext cx="512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ßeinheit der Wärmekapazitä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"/>
          <p:cNvSpPr/>
          <p:nvPr/>
        </p:nvSpPr>
        <p:spPr>
          <a:xfrm>
            <a:off x="612720" y="3780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609480" y="5410080"/>
            <a:ext cx="6048360" cy="490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197080" y="98107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öh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 rot="7254600">
            <a:off x="608040" y="2771280"/>
            <a:ext cx="36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 kJ/(kg·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 rot="14267400">
            <a:off x="2426400" y="7731720"/>
            <a:ext cx="458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Calibri"/>
              </a:rPr>
              <a:t>0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"/>
          <p:cNvSpPr/>
          <p:nvPr/>
        </p:nvSpPr>
        <p:spPr>
          <a:xfrm>
            <a:off x="609480" y="380880"/>
            <a:ext cx="6048360" cy="490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609480" y="54864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 rot="7356600">
            <a:off x="1064160" y="79246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00 °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514600" y="46990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ach o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 rot="14267400">
            <a:off x="2392200" y="7858440"/>
            <a:ext cx="50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Calibri"/>
              </a:rPr>
              <a:t>Basiseinheit der Tempera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 rot="18141000">
            <a:off x="156240" y="290376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Calibri"/>
              </a:rPr>
              <a:t>Beispiel für Konvek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 rot="3514200">
            <a:off x="3014640" y="2903760"/>
            <a:ext cx="40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Calibri"/>
              </a:rPr>
              <a:t>Wasser verdampft be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"/>
          <p:cNvSpPr/>
          <p:nvPr/>
        </p:nvSpPr>
        <p:spPr>
          <a:xfrm>
            <a:off x="612720" y="3780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612720" y="5418000"/>
            <a:ext cx="6048360" cy="490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 rot="7356600">
            <a:off x="291960" y="7745040"/>
            <a:ext cx="422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0 °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676520" y="4648320"/>
            <a:ext cx="42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damp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 rot="14267400">
            <a:off x="1910520" y="7958520"/>
            <a:ext cx="53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welche Richtung bewegt sich der Bimetallstreif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 rot="3513000">
            <a:off x="2051640" y="2671200"/>
            <a:ext cx="540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sser gefriert be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uppieren 19"/>
          <p:cNvGrpSpPr/>
          <p:nvPr/>
        </p:nvGrpSpPr>
        <p:grpSpPr>
          <a:xfrm>
            <a:off x="3263400" y="6019920"/>
            <a:ext cx="1318680" cy="1495800"/>
            <a:chOff x="3263400" y="6019920"/>
            <a:chExt cx="1318680" cy="1495800"/>
          </a:xfrm>
        </p:grpSpPr>
        <p:grpSp>
          <p:nvGrpSpPr>
            <p:cNvPr id="82" name="Gruppieren 6"/>
            <p:cNvGrpSpPr/>
            <p:nvPr/>
          </p:nvGrpSpPr>
          <p:grpSpPr>
            <a:xfrm>
              <a:off x="3263400" y="6019920"/>
              <a:ext cx="1318680" cy="1495800"/>
              <a:chOff x="3263400" y="6019920"/>
              <a:chExt cx="1318680" cy="1495800"/>
            </a:xfrm>
          </p:grpSpPr>
          <p:grpSp>
            <p:nvGrpSpPr>
              <p:cNvPr id="83" name="Gruppieren 3"/>
              <p:cNvGrpSpPr/>
              <p:nvPr/>
            </p:nvGrpSpPr>
            <p:grpSpPr>
              <a:xfrm>
                <a:off x="3658680" y="6486480"/>
                <a:ext cx="492840" cy="634680"/>
                <a:chOff x="3658680" y="6486480"/>
                <a:chExt cx="492840" cy="634680"/>
              </a:xfrm>
            </p:grpSpPr>
            <p:sp>
              <p:nvSpPr>
                <p:cNvPr id="84" name="Rechteck 2"/>
                <p:cNvSpPr/>
                <p:nvPr/>
              </p:nvSpPr>
              <p:spPr>
                <a:xfrm rot="14190600">
                  <a:off x="3542400" y="6787800"/>
                  <a:ext cx="658440" cy="75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rmAutofit/>
                </a:bodyPr>
                <a:p>
                  <a:pPr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Rechteck 10"/>
                <p:cNvSpPr/>
                <p:nvPr/>
              </p:nvSpPr>
              <p:spPr>
                <a:xfrm rot="14190600">
                  <a:off x="3609000" y="6743880"/>
                  <a:ext cx="658440" cy="75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rmAutofit/>
                </a:bodyPr>
                <a:p>
                  <a:pPr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Textfeld 4"/>
              <p:cNvSpPr/>
              <p:nvPr/>
            </p:nvSpPr>
            <p:spPr>
              <a:xfrm rot="14190600">
                <a:off x="3093120" y="6722640"/>
                <a:ext cx="1330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Aluminiu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Textfeld 5"/>
              <p:cNvSpPr/>
              <p:nvPr/>
            </p:nvSpPr>
            <p:spPr>
              <a:xfrm rot="14190600">
                <a:off x="3421800" y="6505560"/>
                <a:ext cx="1330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Kupf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uppieren 18"/>
            <p:cNvGrpSpPr/>
            <p:nvPr/>
          </p:nvGrpSpPr>
          <p:grpSpPr>
            <a:xfrm>
              <a:off x="3820680" y="6344280"/>
              <a:ext cx="244440" cy="201600"/>
              <a:chOff x="3820680" y="6344280"/>
              <a:chExt cx="244440" cy="201600"/>
            </a:xfrm>
          </p:grpSpPr>
          <p:sp>
            <p:nvSpPr>
              <p:cNvPr id="89" name="Rechteck 7"/>
              <p:cNvSpPr/>
              <p:nvPr/>
            </p:nvSpPr>
            <p:spPr>
              <a:xfrm rot="14190600">
                <a:off x="3917160" y="6358320"/>
                <a:ext cx="112680" cy="145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ihandform 17"/>
              <p:cNvSpPr/>
              <p:nvPr/>
            </p:nvSpPr>
            <p:spPr>
              <a:xfrm rot="14190600">
                <a:off x="3837600" y="6445440"/>
                <a:ext cx="82080" cy="85320"/>
              </a:xfrm>
              <a:custGeom>
                <a:avLst/>
                <a:gdLst/>
                <a:ahLst/>
                <a:rect l="l" t="t" r="r" b="b"/>
                <a:pathLst>
                  <a:path w="219693" h="338447">
                    <a:moveTo>
                      <a:pt x="41563" y="338447"/>
                    </a:moveTo>
                    <a:cubicBezTo>
                      <a:pt x="35626" y="328551"/>
                      <a:pt x="28912" y="319081"/>
                      <a:pt x="23751" y="308759"/>
                    </a:cubicBezTo>
                    <a:cubicBezTo>
                      <a:pt x="8336" y="277927"/>
                      <a:pt x="29132" y="302266"/>
                      <a:pt x="5938" y="279070"/>
                    </a:cubicBezTo>
                    <a:cubicBezTo>
                      <a:pt x="3959" y="257299"/>
                      <a:pt x="0" y="235617"/>
                      <a:pt x="0" y="213756"/>
                    </a:cubicBezTo>
                    <a:cubicBezTo>
                      <a:pt x="0" y="185976"/>
                      <a:pt x="2692" y="158218"/>
                      <a:pt x="5938" y="130629"/>
                    </a:cubicBezTo>
                    <a:cubicBezTo>
                      <a:pt x="6669" y="124413"/>
                      <a:pt x="8655" y="118183"/>
                      <a:pt x="11875" y="112816"/>
                    </a:cubicBezTo>
                    <a:cubicBezTo>
                      <a:pt x="14755" y="108015"/>
                      <a:pt x="20254" y="105312"/>
                      <a:pt x="23751" y="100940"/>
                    </a:cubicBezTo>
                    <a:cubicBezTo>
                      <a:pt x="28209" y="95368"/>
                      <a:pt x="29575" y="86909"/>
                      <a:pt x="35626" y="83127"/>
                    </a:cubicBezTo>
                    <a:cubicBezTo>
                      <a:pt x="46241" y="76493"/>
                      <a:pt x="60837" y="78195"/>
                      <a:pt x="71252" y="71252"/>
                    </a:cubicBezTo>
                    <a:cubicBezTo>
                      <a:pt x="93723" y="56272"/>
                      <a:pt x="84019" y="64423"/>
                      <a:pt x="100940" y="47501"/>
                    </a:cubicBezTo>
                    <a:cubicBezTo>
                      <a:pt x="114585" y="6564"/>
                      <a:pt x="103963" y="20726"/>
                      <a:pt x="124691" y="0"/>
                    </a:cubicBezTo>
                    <a:cubicBezTo>
                      <a:pt x="128301" y="21664"/>
                      <a:pt x="123625" y="36174"/>
                      <a:pt x="142504" y="47501"/>
                    </a:cubicBezTo>
                    <a:cubicBezTo>
                      <a:pt x="147871" y="50721"/>
                      <a:pt x="154379" y="51460"/>
                      <a:pt x="160317" y="53439"/>
                    </a:cubicBezTo>
                    <a:cubicBezTo>
                      <a:pt x="162296" y="59377"/>
                      <a:pt x="163034" y="65885"/>
                      <a:pt x="166254" y="71252"/>
                    </a:cubicBezTo>
                    <a:cubicBezTo>
                      <a:pt x="169134" y="76052"/>
                      <a:pt x="175626" y="78120"/>
                      <a:pt x="178130" y="83127"/>
                    </a:cubicBezTo>
                    <a:cubicBezTo>
                      <a:pt x="183728" y="94323"/>
                      <a:pt x="186047" y="106878"/>
                      <a:pt x="190005" y="118753"/>
                    </a:cubicBezTo>
                    <a:lnTo>
                      <a:pt x="201880" y="154379"/>
                    </a:lnTo>
                    <a:cubicBezTo>
                      <a:pt x="203859" y="160317"/>
                      <a:pt x="206300" y="166120"/>
                      <a:pt x="207818" y="172192"/>
                    </a:cubicBezTo>
                    <a:cubicBezTo>
                      <a:pt x="215274" y="202015"/>
                      <a:pt x="211176" y="188201"/>
                      <a:pt x="219693" y="213756"/>
                    </a:cubicBezTo>
                    <a:cubicBezTo>
                      <a:pt x="217714" y="227611"/>
                      <a:pt x="215391" y="241421"/>
                      <a:pt x="213756" y="255320"/>
                    </a:cubicBezTo>
                    <a:cubicBezTo>
                      <a:pt x="211432" y="275074"/>
                      <a:pt x="207818" y="314696"/>
                      <a:pt x="207818" y="314696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Gerader Verbinder 9"/>
              <p:cNvSpPr/>
              <p:nvPr/>
            </p:nvSpPr>
            <p:spPr>
              <a:xfrm flipH="1">
                <a:off x="3877560" y="6463800"/>
                <a:ext cx="30600" cy="20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"/>
          <p:cNvSpPr/>
          <p:nvPr/>
        </p:nvSpPr>
        <p:spPr>
          <a:xfrm>
            <a:off x="612720" y="3780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609480" y="5410080"/>
            <a:ext cx="6048360" cy="490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197080" y="98107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ötkol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676520" y="464832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dens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 rot="14267400">
            <a:off x="2266560" y="7769160"/>
            <a:ext cx="50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rechnung der Wärmem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 rot="7295400">
            <a:off x="370080" y="7732080"/>
            <a:ext cx="430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wandlung von gasförmig in flüss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 rot="14267400">
            <a:off x="2009160" y="2894400"/>
            <a:ext cx="53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welche Richtung bewegt sich der Bimetallstreif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uppieren 11"/>
          <p:cNvGrpSpPr/>
          <p:nvPr/>
        </p:nvGrpSpPr>
        <p:grpSpPr>
          <a:xfrm>
            <a:off x="3380400" y="1042920"/>
            <a:ext cx="1318320" cy="1496160"/>
            <a:chOff x="3380400" y="1042920"/>
            <a:chExt cx="1318320" cy="1496160"/>
          </a:xfrm>
        </p:grpSpPr>
        <p:grpSp>
          <p:nvGrpSpPr>
            <p:cNvPr id="101" name="Gruppieren 12"/>
            <p:cNvGrpSpPr/>
            <p:nvPr/>
          </p:nvGrpSpPr>
          <p:grpSpPr>
            <a:xfrm>
              <a:off x="3380400" y="1042920"/>
              <a:ext cx="1318320" cy="1496160"/>
              <a:chOff x="3380400" y="1042920"/>
              <a:chExt cx="1318320" cy="1496160"/>
            </a:xfrm>
          </p:grpSpPr>
          <p:grpSp>
            <p:nvGrpSpPr>
              <p:cNvPr id="102" name="Gruppieren 17"/>
              <p:cNvGrpSpPr/>
              <p:nvPr/>
            </p:nvGrpSpPr>
            <p:grpSpPr>
              <a:xfrm>
                <a:off x="3814920" y="1482840"/>
                <a:ext cx="492840" cy="635040"/>
                <a:chOff x="3814920" y="1482840"/>
                <a:chExt cx="492840" cy="635040"/>
              </a:xfrm>
            </p:grpSpPr>
            <p:sp>
              <p:nvSpPr>
                <p:cNvPr id="103" name="Rechteck 20"/>
                <p:cNvSpPr/>
                <p:nvPr/>
              </p:nvSpPr>
              <p:spPr>
                <a:xfrm rot="14190600">
                  <a:off x="3698640" y="1784520"/>
                  <a:ext cx="658440" cy="75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rmAutofit/>
                </a:bodyPr>
                <a:p>
                  <a:pPr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Rechteck 21"/>
                <p:cNvSpPr/>
                <p:nvPr/>
              </p:nvSpPr>
              <p:spPr>
                <a:xfrm rot="14190600">
                  <a:off x="3765240" y="1740240"/>
                  <a:ext cx="658440" cy="75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rmAutofit/>
                </a:bodyPr>
                <a:p>
                  <a:pPr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Textfeld 18"/>
              <p:cNvSpPr/>
              <p:nvPr/>
            </p:nvSpPr>
            <p:spPr>
              <a:xfrm rot="14190600">
                <a:off x="3209760" y="1745640"/>
                <a:ext cx="133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Stah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feld 19"/>
              <p:cNvSpPr/>
              <p:nvPr/>
            </p:nvSpPr>
            <p:spPr>
              <a:xfrm rot="14190600">
                <a:off x="3538080" y="1528560"/>
                <a:ext cx="133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Mess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uppieren 13"/>
            <p:cNvGrpSpPr/>
            <p:nvPr/>
          </p:nvGrpSpPr>
          <p:grpSpPr>
            <a:xfrm>
              <a:off x="3976920" y="1341360"/>
              <a:ext cx="244080" cy="201240"/>
              <a:chOff x="3976920" y="1341360"/>
              <a:chExt cx="244080" cy="201240"/>
            </a:xfrm>
          </p:grpSpPr>
          <p:sp>
            <p:nvSpPr>
              <p:cNvPr id="108" name="Rechteck 14"/>
              <p:cNvSpPr/>
              <p:nvPr/>
            </p:nvSpPr>
            <p:spPr>
              <a:xfrm rot="14190600">
                <a:off x="4073040" y="1355400"/>
                <a:ext cx="112680" cy="145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ihandform 15"/>
              <p:cNvSpPr/>
              <p:nvPr/>
            </p:nvSpPr>
            <p:spPr>
              <a:xfrm rot="14190600">
                <a:off x="3993840" y="1442160"/>
                <a:ext cx="82080" cy="85320"/>
              </a:xfrm>
              <a:custGeom>
                <a:avLst/>
                <a:gdLst/>
                <a:ahLst/>
                <a:rect l="l" t="t" r="r" b="b"/>
                <a:pathLst>
                  <a:path w="219693" h="338447">
                    <a:moveTo>
                      <a:pt x="41563" y="338447"/>
                    </a:moveTo>
                    <a:cubicBezTo>
                      <a:pt x="35626" y="328551"/>
                      <a:pt x="28912" y="319081"/>
                      <a:pt x="23751" y="308759"/>
                    </a:cubicBezTo>
                    <a:cubicBezTo>
                      <a:pt x="8336" y="277927"/>
                      <a:pt x="29132" y="302266"/>
                      <a:pt x="5938" y="279070"/>
                    </a:cubicBezTo>
                    <a:cubicBezTo>
                      <a:pt x="3959" y="257299"/>
                      <a:pt x="0" y="235617"/>
                      <a:pt x="0" y="213756"/>
                    </a:cubicBezTo>
                    <a:cubicBezTo>
                      <a:pt x="0" y="185976"/>
                      <a:pt x="2692" y="158218"/>
                      <a:pt x="5938" y="130629"/>
                    </a:cubicBezTo>
                    <a:cubicBezTo>
                      <a:pt x="6669" y="124413"/>
                      <a:pt x="8655" y="118183"/>
                      <a:pt x="11875" y="112816"/>
                    </a:cubicBezTo>
                    <a:cubicBezTo>
                      <a:pt x="14755" y="108015"/>
                      <a:pt x="20254" y="105312"/>
                      <a:pt x="23751" y="100940"/>
                    </a:cubicBezTo>
                    <a:cubicBezTo>
                      <a:pt x="28209" y="95368"/>
                      <a:pt x="29575" y="86909"/>
                      <a:pt x="35626" y="83127"/>
                    </a:cubicBezTo>
                    <a:cubicBezTo>
                      <a:pt x="46241" y="76493"/>
                      <a:pt x="60837" y="78195"/>
                      <a:pt x="71252" y="71252"/>
                    </a:cubicBezTo>
                    <a:cubicBezTo>
                      <a:pt x="93723" y="56272"/>
                      <a:pt x="84019" y="64423"/>
                      <a:pt x="100940" y="47501"/>
                    </a:cubicBezTo>
                    <a:cubicBezTo>
                      <a:pt x="114585" y="6564"/>
                      <a:pt x="103963" y="20726"/>
                      <a:pt x="124691" y="0"/>
                    </a:cubicBezTo>
                    <a:cubicBezTo>
                      <a:pt x="128301" y="21664"/>
                      <a:pt x="123625" y="36174"/>
                      <a:pt x="142504" y="47501"/>
                    </a:cubicBezTo>
                    <a:cubicBezTo>
                      <a:pt x="147871" y="50721"/>
                      <a:pt x="154379" y="51460"/>
                      <a:pt x="160317" y="53439"/>
                    </a:cubicBezTo>
                    <a:cubicBezTo>
                      <a:pt x="162296" y="59377"/>
                      <a:pt x="163034" y="65885"/>
                      <a:pt x="166254" y="71252"/>
                    </a:cubicBezTo>
                    <a:cubicBezTo>
                      <a:pt x="169134" y="76052"/>
                      <a:pt x="175626" y="78120"/>
                      <a:pt x="178130" y="83127"/>
                    </a:cubicBezTo>
                    <a:cubicBezTo>
                      <a:pt x="183728" y="94323"/>
                      <a:pt x="186047" y="106878"/>
                      <a:pt x="190005" y="118753"/>
                    </a:cubicBezTo>
                    <a:lnTo>
                      <a:pt x="201880" y="154379"/>
                    </a:lnTo>
                    <a:cubicBezTo>
                      <a:pt x="203859" y="160317"/>
                      <a:pt x="206300" y="166120"/>
                      <a:pt x="207818" y="172192"/>
                    </a:cubicBezTo>
                    <a:cubicBezTo>
                      <a:pt x="215274" y="202015"/>
                      <a:pt x="211176" y="188201"/>
                      <a:pt x="219693" y="213756"/>
                    </a:cubicBezTo>
                    <a:cubicBezTo>
                      <a:pt x="217714" y="227611"/>
                      <a:pt x="215391" y="241421"/>
                      <a:pt x="213756" y="255320"/>
                    </a:cubicBezTo>
                    <a:cubicBezTo>
                      <a:pt x="211432" y="275074"/>
                      <a:pt x="207818" y="314696"/>
                      <a:pt x="207818" y="314696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Gerader Verbinder 16"/>
              <p:cNvSpPr/>
              <p:nvPr/>
            </p:nvSpPr>
            <p:spPr>
              <a:xfrm flipH="1">
                <a:off x="4036320" y="1455120"/>
                <a:ext cx="30240" cy="20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"/>
          <p:cNvSpPr/>
          <p:nvPr/>
        </p:nvSpPr>
        <p:spPr>
          <a:xfrm>
            <a:off x="609480" y="380880"/>
            <a:ext cx="6048360" cy="490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609480" y="5410080"/>
            <a:ext cx="6048360" cy="490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 rot="3513000">
            <a:off x="3051720" y="2597760"/>
            <a:ext cx="325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wandlung von flüssig in gasförm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 rot="7295400">
            <a:off x="135720" y="7790400"/>
            <a:ext cx="45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spiel für Wärmeleit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 rot="18119400">
            <a:off x="6840" y="2813760"/>
            <a:ext cx="47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 = c · m · ∆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5T13:52:52Z</dcterms:created>
  <dc:creator>H.H.</dc:creator>
  <dc:description/>
  <dc:language>en-US</dc:language>
  <cp:lastModifiedBy>Dehlen, Ralf (LS)</cp:lastModifiedBy>
  <cp:lastPrinted>2014-02-10T10:33:56Z</cp:lastPrinted>
  <dcterms:modified xsi:type="dcterms:W3CDTF">2014-04-10T13:46:32Z</dcterms:modified>
  <cp:revision>22</cp:revision>
  <dc:subject/>
  <dc:title>Folie 1</dc:title>
</cp:coreProperties>
</file>