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44B-A6E6-4DF5-AC6B-FC8D9FF9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700-BCE1-4667-B8D8-4DD4E228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0F5-79AE-4596-AF01-E079F656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183-FE47-42C0-89BB-6BFE83F0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26F-E420-4F33-9193-72346B6D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701-4D86-4004-978E-CEA86AAE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5A0-575D-4780-B4EF-C3F6905C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73D-1934-4955-9B7E-F7D7C39A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542-D09C-4DB5-8E1C-3566B304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011-5A5D-41D6-B14F-4DFA220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CA6-6990-4B9B-9217-D6C21010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AC0-556D-4AFA-8FF6-E2C91589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D347-7F2A-4834-BB0E-513C2E26B6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4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369720"/>
              <a:ext cx="1655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3000" y="579600"/>
              <a:ext cx="1655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79056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00008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57960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0000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Text Box 26"/>
          <p:cNvSpPr/>
          <p:nvPr/>
        </p:nvSpPr>
        <p:spPr>
          <a:xfrm>
            <a:off x="2340000" y="517680"/>
            <a:ext cx="21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„Elektrospech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0" descr="Eletrospecht_Bild_ge"/>
          <p:cNvPicPr/>
          <p:nvPr/>
        </p:nvPicPr>
        <p:blipFill>
          <a:blip r:embed="rId1"/>
          <a:srcRect l="17716" t="10225" r="17716" b="0"/>
          <a:stretch/>
        </p:blipFill>
        <p:spPr>
          <a:xfrm>
            <a:off x="549360" y="1568520"/>
            <a:ext cx="1685880" cy="78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Text Box 91"/>
          <p:cNvSpPr/>
          <p:nvPr/>
        </p:nvSpPr>
        <p:spPr>
          <a:xfrm>
            <a:off x="692640" y="7616880"/>
            <a:ext cx="11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r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z.B. AA 1,5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0"/>
          <p:cNvSpPr/>
          <p:nvPr/>
        </p:nvSpPr>
        <p:spPr>
          <a:xfrm>
            <a:off x="2781360" y="1568520"/>
            <a:ext cx="3527280" cy="62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e verhält sich der „Elektrospecht“ wenn man kurzzeitig den Stromkreis schließ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Der „Elektrospecht“ fängt an sich zu bew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lche Rolle spielt die Polung der Batteri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Der Magnet wird angezogen oder abgestoßen. Vertauscht man den Plus- und  Minusanschluss an der Batterie, so verändert sich die Kraft-richtung auf den Magne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läutere die Funktionswe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Der Draht ist kreisrund zu einer Spule gewickelt. Um stromdurchflossene Leiter und strom-durchflossene Spulen existieren Magnetfel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obald Strom durch den kreisrund gewickelten Draht fließt bildet sich ein Magnetfeld aus, welches den Magneten anzieht oder abstöß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Ändert man die Stromrichtung, so dreht sich die abstoßende bzw. anziehende Wirkung auf den Magneten um. Das heißt, die Richtung des Magnetfeldes der Spule ist abhängig von der Stromricht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Dehlen, Ralf (LS)</cp:lastModifiedBy>
  <dcterms:modified xsi:type="dcterms:W3CDTF">2014-02-27T17:25:27Z</dcterms:modified>
  <cp:revision>122</cp:revision>
  <dc:subject/>
  <dc:title>Folie 1</dc:title>
</cp:coreProperties>
</file>