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A4F-49B3-4E1F-8971-B0AB268B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42240"/>
            <a:ext cx="88660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F63-2F98-4B1D-AEEC-675E1D9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24224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4E1-0967-4AE7-A4AD-141D857C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4224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24224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242240"/>
            <a:ext cx="28548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EDE-D74C-4057-B670-49375502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0A4-F786-4C1C-B99B-5AFCEF4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490-E385-4610-91E3-B15FFF17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429-272E-4A99-8EA8-BC54C99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30C-BAC0-4BE3-B48B-54D61B38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BA3-6A8F-4928-8036-565624E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F9D-5889-4209-8E14-C0B2B19B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24224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C20-712A-429B-AC76-17E5AA5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88660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1FD-C426-4BE3-BAA6-2B95690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88949-392F-46DA-837B-1ACBE99E925D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6000" y="1152360"/>
            <a:ext cx="9504360" cy="187200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760" y="9684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derlegung der gängigen Gottesbeweise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1224000"/>
            <a:ext cx="165564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unbewegter Beweger außerhalb von Raum und Z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85920" y="1476360"/>
            <a:ext cx="80172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9280" y="4726080"/>
            <a:ext cx="151128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nn Gott die Welt erschaffen hat, war er vor ihr 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24360" y="165564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475128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 lässt sich auch auf Gottt anwe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00" y="165564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64360" y="4680000"/>
            <a:ext cx="165600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existiert nich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2376360"/>
            <a:ext cx="165564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existiert a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2411280"/>
            <a:ext cx="801720" cy="346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5640" y="4680000"/>
            <a:ext cx="165600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existiert nich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259236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475128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hat ihren Ursprung in s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67640" y="2519280"/>
            <a:ext cx="360360" cy="360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720" y="4248000"/>
            <a:ext cx="9158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ag: Ordnen Sie die Aussagen in den Kästchen sinnvoll in das Strukturbild 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000" y="971640"/>
            <a:ext cx="9504360" cy="262728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8760" y="9684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derlegung der gängigen Gottesbeweise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360" y="1079640"/>
            <a:ext cx="1655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und die Natur sind 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1368360"/>
            <a:ext cx="5327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15892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5920" y="1979640"/>
            <a:ext cx="80172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02436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0360" y="2519280"/>
            <a:ext cx="1655640" cy="943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gut+bö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llkommen und unvollkommen zugle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02436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3640" y="2808360"/>
            <a:ext cx="1655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Gott nach dieser Definition kann nicht existie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67640" y="2052720"/>
            <a:ext cx="360360" cy="360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506556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hat die Welt nicht erschaf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8360" y="506556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Welt ist unvollko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16720" y="5065560"/>
            <a:ext cx="1655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 ist unvollko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15280" y="5040360"/>
            <a:ext cx="1655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genseitige Aufhebung zum Ni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165640"/>
            <a:ext cx="826920" cy="260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log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4248000"/>
            <a:ext cx="9158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ag: Ordnen Sie die Aussagen in den Kästchen sinnvoll in das Strukturbild 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8:47:15Z</dcterms:created>
  <dc:creator>rene </dc:creator>
  <dc:description/>
  <dc:language>en-US</dc:language>
  <cp:lastModifiedBy/>
  <cp:revision>0</cp:revision>
  <dc:subject/>
  <dc:title/>
</cp:coreProperties>
</file>