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AAC3-F205-4940-897E-2B3152FE6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7103-1F92-4B66-87F4-EF113D6A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AB27-3009-4F70-AB75-080D0D9EE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925D-68F4-49D1-8967-E124339FE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3DCA-9FD8-4165-AC8F-B8AF6162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A7A7-40AC-4D41-A287-46493F3F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0ACB-520D-46B2-8F24-7D233164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07D5-FC29-4027-91F6-3E6000A8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EA94-A51C-451A-96AE-5C2F81EE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7210-C939-41F7-9737-A37AFBA7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5222-C70C-46EE-9EB8-7ABD8146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1252-4615-4EAB-874B-DCA307B4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EC8901-C9FA-4C3C-B5F9-278C6395200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6000" y="4284720"/>
            <a:ext cx="9504360" cy="2627280"/>
          </a:xfrm>
          <a:prstGeom prst="rect">
            <a:avLst/>
          </a:prstGeom>
          <a:solidFill>
            <a:srgbClr val="e6e6e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6000" y="1511280"/>
            <a:ext cx="9504360" cy="1871640"/>
          </a:xfrm>
          <a:prstGeom prst="rect">
            <a:avLst/>
          </a:prstGeom>
          <a:solidFill>
            <a:srgbClr val="e6e6e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Widerlegung der gängigen Gottesbewei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0360" y="1584360"/>
            <a:ext cx="1655640" cy="792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he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ott ist unbewegter Beweger außerhalb von Raum und Ze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85920" y="1836720"/>
            <a:ext cx="801720" cy="3459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A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0" y="1701720"/>
            <a:ext cx="1511280" cy="601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enn Gott die Welt erschaffen hat, war er vor ihr 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24360" y="2016000"/>
            <a:ext cx="43200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472000" y="1800360"/>
            <a:ext cx="165600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eit lässt sich auch auf Gottt anwen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28000" y="2016000"/>
            <a:ext cx="50328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883640" y="1763640"/>
            <a:ext cx="1655640" cy="6015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in Gott nach dieser Definition existiert nicht 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0360" y="2735280"/>
            <a:ext cx="1655640" cy="431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e Welt existiert a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85920" y="2771640"/>
            <a:ext cx="801720" cy="3463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A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0" y="2664000"/>
            <a:ext cx="1656000" cy="6015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in Gott nach dieser Definition existiert nicht 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03640" y="2952720"/>
            <a:ext cx="4320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43640" y="2700360"/>
            <a:ext cx="165564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e Welt hat ihren Ursprung in si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0360" y="4392720"/>
            <a:ext cx="1655640" cy="6015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he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ott und die Natur sind e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03640" y="4680000"/>
            <a:ext cx="532764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848720" y="4464000"/>
            <a:ext cx="165564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ott hat die Welt nicht erschaff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0" y="5219640"/>
            <a:ext cx="165600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e Welt ist unvollkomm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03640" y="5472000"/>
            <a:ext cx="43200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80000" y="5219640"/>
            <a:ext cx="165600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ott ist unvollkomm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85920" y="5292720"/>
            <a:ext cx="801720" cy="3459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A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0" y="6083280"/>
            <a:ext cx="1656000" cy="6015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egenseitige Aufhebung zum Nic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03640" y="6335640"/>
            <a:ext cx="43200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6191280"/>
            <a:ext cx="827280" cy="260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nlogis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0360" y="5832360"/>
            <a:ext cx="1655640" cy="943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he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ott ist gut+bös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ollkommen und unvollkommen zugle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0000" y="6335640"/>
            <a:ext cx="43164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883640" y="6119640"/>
            <a:ext cx="1655640" cy="601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in Gott nach dieser Definition kann nicht existiere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567640" y="2879640"/>
            <a:ext cx="360360" cy="3603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567640" y="5364000"/>
            <a:ext cx="360360" cy="3603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09:31:00Z</dcterms:created>
  <dc:creator>rene </dc:creator>
  <dc:description/>
  <dc:language>en-US</dc:language>
  <cp:lastModifiedBy>rene </cp:lastModifiedBy>
  <dcterms:modified xsi:type="dcterms:W3CDTF">2012-11-28T09:31:33Z</dcterms:modified>
  <cp:revision>1</cp:revision>
  <dc:subject/>
  <dc:title/>
</cp:coreProperties>
</file>