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383014-49A6-4C84-B1E2-F07C27A33C96}" type="datetime">
              <a:rPr b="0" lang="de-DE" sz="1200" spc="-1" strike="noStrike">
                <a:solidFill>
                  <a:srgbClr val="000000"/>
                </a:solidFill>
                <a:latin typeface="Calibri"/>
              </a:rPr>
              <a:t>31.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433153-6904-4E24-82E7-6C65D006D32C}"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philosophia-online.de/mafo/heft2002-06/Willensfreiheit.htm"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de.wikipedia.org/wiki/Philosophie" TargetMode="External"/><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de.wikipedia.org/wiki/Latein"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000000"/>
                </a:solidFill>
                <a:latin typeface="Calibri"/>
              </a:rPr>
              <a:t>In dieser vorgefertigten PPT-Präsentation sollen die Leerstellen ergänzt werden. Das Ziel ist es, eine Präsentation zu erstellen, die die philosophischen Aspekte in „Dantons Tod“ weitgehend thematisch abdeckt.</a:t>
            </a:r>
            <a:endParaRPr b="0" lang="en-US" sz="16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000000"/>
                </a:solidFill>
                <a:latin typeface="Calibri"/>
              </a:rPr>
              <a:t>Sie finden neben den zu ergänzenden Folien im Bereich „Notizen“ Textgrundlagen und Aufgabenstellungen, die Ihnen helfen sollen, die einzelnen Folien zu ergänzen. Natürlich ist es Ihnen überlassen und sogar gewünscht, weitere Ergänzungen oder Änderungen vorzunehmen.</a:t>
            </a:r>
            <a:endParaRPr b="0" lang="en-US" sz="1600" spc="-1" strike="noStrike">
              <a:solidFill>
                <a:srgbClr val="000000"/>
              </a:solidFill>
              <a:latin typeface="Calibri"/>
            </a:endParaRPr>
          </a:p>
        </p:txBody>
      </p:sp>
      <p:sp>
        <p:nvSpPr>
          <p:cNvPr id="87"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A9B1BA-DCF4-4E0A-BA60-112B87008F4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000000"/>
                </a:solidFill>
                <a:latin typeface="Calibri"/>
              </a:rPr>
              <a:t>Textgrundlag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0000"/>
                </a:solidFill>
                <a:latin typeface="Calibri"/>
              </a:rPr>
              <a:t>Auf die SPIEGEL-Frage: „Müssen Sie dann nicht das Prinzip von Schuld und Sühne über Bord werfen?“ antwortete Wolf Singer, Direktor des Frankfurter Max-Planck-Instituts für Hirnforschung: „Ja, ich halte dieses Prinzip für verzichtbar. An unserem Verhalten würde sich auch gar nicht viel ändern.“ Gerhard Roth sagte dazu in der ZEIT, er sei davon überzeugt, „daß der Gedanke der persönlichen Schuld und Sühne aufgegeben werden müsse. An seine Stelle sollte der Gedanke der Prävention und Umerziehung treten.“ Der Pädagoge Schmidt-Salomon propagierte schließlich darauf aufbauend in einem Artikel der philosophischen Zeitschrift AUFKLÄRUNG UND KRITIK die „prinzipiell moralfreie Gesellschaft“ indem er fragt: „Macht es angesichts der Erkenntnisse der Wissenschaften überhaupt noch Sinn, von moralischen Begriffen wie Gut und Böse, Schuld und Sühne auszugehen?“ (AuK 1/2002, S.145). Der Grundgedanke ist überall der, daß der Mensch nicht für seine Taten verantwortlich gemacht werden kann, wenn sein Wille nicht frei, sondern determiniert is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0000"/>
                </a:solidFill>
                <a:latin typeface="Calibri"/>
              </a:rPr>
              <a:t>(Beiträge zur geistigen Situation der Gegenwart  Jg. 3 (2002), Heft 6</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0000"/>
                </a:solidFill>
                <a:latin typeface="Calibri"/>
              </a:rPr>
              <a:t>Ein Plädoyer für moralische Verantwortung und Willensfreihei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0000"/>
                </a:solidFill>
                <a:latin typeface="Calibri"/>
              </a:rPr>
              <a:t>von Bernd Ehler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u="sng">
                <a:solidFill>
                  <a:srgbClr val="0000ff"/>
                </a:solidFill>
                <a:uFillTx/>
                <a:latin typeface="Calibri"/>
                <a:hlinkClick r:id="rId1"/>
              </a:rPr>
              <a:t>http://www.philosophia-online.de/mafo/heft2002-06/Willensfreiheit.htm</a:t>
            </a:r>
            <a:r>
              <a:rPr b="0" lang="de-DE" sz="1400" spc="-1" strike="noStrike">
                <a:solidFill>
                  <a:srgbClr val="000000"/>
                </a:solidFill>
                <a:latin typeface="Calibri"/>
              </a:rPr>
              <a:t>, 27.11.2012)</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de-DE" sz="1200" spc="-1" strike="noStrike">
                <a:solidFill>
                  <a:srgbClr val="000000"/>
                </a:solidFill>
                <a:latin typeface="Calibri"/>
              </a:rPr>
              <a:t>Aufgabe: Ergänzen Sie die Sprechbla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4"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FB7440-72F7-4521-9DFA-5153F4650303}"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Calibri"/>
            </a:endParaRPr>
          </a:p>
        </p:txBody>
      </p:sp>
      <p:sp>
        <p:nvSpPr>
          <p:cNvPr id="117"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3C63B1-1996-465F-A128-A6CDD7107667}"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000000"/>
                </a:solidFill>
                <a:latin typeface="Calibri"/>
              </a:rPr>
              <a:t>Textgrundlage 1</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Danton. ... Versenke dich in was Ruhigers als das Nichts, und wenn die höchste Ruhe Gott ist, ist nicht das Nichts Gott? Aber ich bin ein Atheist. Der verfluchte Satz: Etwas kann nicht zu nichts werden! Und ich bin etwas, das ist der Jammer! – Die Schöpfung hat sich so breit gemacht, da ist nichts leer, alles voll Gewimmels. Das Nichts hat sich ermordet, die Schöpfung ist seine Wunde, wir sind seine Blutstropfen, die Welt ist das Grab, worin es fault. – Das lautet verrückt, es ist aber doch was Wahres daran.  ...Da ist keine Hoffnung im Tod; er ist nur eine einfachere, das Leben eine verwickeltere, organisiertere Fäulnis, das ist der ganze Unterschied! – Aber ich bin gerad einmal an diese Art des Faulens gewöhnt; der Teufel weiß, wie ich mit einer andern zurechtkomme.... (III,7)</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000000"/>
                </a:solidFill>
                <a:latin typeface="Calibri"/>
              </a:rPr>
              <a:t>Aufgabe:</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0000"/>
                </a:solidFill>
                <a:latin typeface="Calibri"/>
              </a:rPr>
              <a:t>Tragen Sie in die Sprechblase ein, welche Aspekte des Materialismus` von Danton vertreten werden.</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20"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0EE09-1926-4B1D-8676-96388D853541}"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Calibri"/>
            </a:endParaRPr>
          </a:p>
        </p:txBody>
      </p:sp>
      <p:sp>
        <p:nvSpPr>
          <p:cNvPr id="123"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A333DE-DE50-425C-8F1B-84B6D2571EAD}"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000000"/>
                </a:solidFill>
                <a:latin typeface="Calibri"/>
              </a:rPr>
              <a:t>Textgrundlage 1</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a:t>
            </a:r>
            <a:r>
              <a:rPr b="0" lang="de-DE" sz="1200" spc="-1" strike="noStrike">
                <a:solidFill>
                  <a:srgbClr val="000000"/>
                </a:solidFill>
                <a:latin typeface="Calibri"/>
              </a:rPr>
              <a:t>»Kein Mensch muß müssen«, sagt der Jude Nathan zum Derwisch, und dieses Wort ist in einem weiteren Umfange wahr, als man demselben vielleicht einräumen möchte. Der Wille ist der Geschlechtscharakter des Menschen, und die Vernunft selbst ist nur die ewige Regel desselben. Vernünftig handelt die ganze Natur; sein Prärogativ ist bloß, daß er mit Bewußtsein und Willen vernünftig handelt. Alle andere Dinge müssen; der Mensch ist das Wesen, welches will....“ (Friedrich Schiller, Über das Erhabe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000000"/>
                </a:solidFill>
                <a:latin typeface="Calibri"/>
              </a:rPr>
              <a:t>Textgrundlage 2</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000000"/>
                </a:solidFill>
                <a:latin typeface="Calibri"/>
              </a:rPr>
              <a:t>Idealismus</a:t>
            </a:r>
            <a:r>
              <a:rPr b="0" lang="de-DE" sz="1200" spc="-1" strike="noStrike">
                <a:solidFill>
                  <a:srgbClr val="000000"/>
                </a:solidFill>
                <a:latin typeface="Calibri"/>
              </a:rPr>
              <a:t> (abgeleitet von griechisch ἰδέα „Idee“, „Urbild“) bezeichnet in der </a:t>
            </a:r>
            <a:r>
              <a:rPr b="0" lang="de-DE" sz="1200" spc="-1" strike="noStrike" u="sng">
                <a:solidFill>
                  <a:srgbClr val="0000ff"/>
                </a:solidFill>
                <a:uFillTx/>
                <a:latin typeface="Calibri"/>
                <a:hlinkClick r:id="rId1"/>
              </a:rPr>
              <a:t>Philosophie</a:t>
            </a:r>
            <a:r>
              <a:rPr b="0" lang="de-DE" sz="1200" spc="-1" strike="noStrike">
                <a:solidFill>
                  <a:srgbClr val="000000"/>
                </a:solidFill>
                <a:latin typeface="Calibri"/>
              </a:rPr>
              <a:t> unterschiedliche Strömungen, die sehr grob zusammengefasst die Überzeugung gemein haben, dass das eigentlich Wirkliche geistig-ideeller Natur ist. (http://de.wikipedia.org/wiki/Idealismu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000000"/>
                </a:solidFill>
                <a:latin typeface="Calibri"/>
              </a:rPr>
              <a:t>Aufgabe:</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0000"/>
                </a:solidFill>
                <a:latin typeface="Calibri"/>
              </a:rPr>
              <a:t>Tragen Sie in die Sprechblase ein, welche Aspekte den Idealismus ausmachen.</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26"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2C7C26-0C4D-46CF-9C22-3BCD131621BC}"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Calibri"/>
            </a:endParaRPr>
          </a:p>
        </p:txBody>
      </p:sp>
      <p:sp>
        <p:nvSpPr>
          <p:cNvPr id="129"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0692A7-1735-4F34-979B-9113FFA2BF4A}"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000000"/>
                </a:solidFill>
                <a:latin typeface="Calibri"/>
              </a:rPr>
              <a:t>Textgrundlage 1</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Der </a:t>
            </a:r>
            <a:r>
              <a:rPr b="1" lang="de-DE" sz="1200" spc="-1" strike="noStrike">
                <a:solidFill>
                  <a:srgbClr val="000000"/>
                </a:solidFill>
                <a:latin typeface="Calibri"/>
              </a:rPr>
              <a:t>Determinismus</a:t>
            </a:r>
            <a:r>
              <a:rPr b="0" lang="de-DE" sz="1200" spc="-1" strike="noStrike">
                <a:solidFill>
                  <a:srgbClr val="000000"/>
                </a:solidFill>
                <a:latin typeface="Calibri"/>
              </a:rPr>
              <a:t> (</a:t>
            </a:r>
            <a:r>
              <a:rPr b="0" lang="de-DE" sz="1200" spc="-1" strike="noStrike" u="sng">
                <a:solidFill>
                  <a:srgbClr val="0000ff"/>
                </a:solidFill>
                <a:uFillTx/>
                <a:latin typeface="Calibri"/>
                <a:hlinkClick r:id="rId1"/>
              </a:rPr>
              <a:t>lat.</a:t>
            </a:r>
            <a:r>
              <a:rPr b="0" lang="de-DE" sz="1200" spc="-1" strike="noStrike">
                <a:solidFill>
                  <a:srgbClr val="000000"/>
                </a:solidFill>
                <a:latin typeface="Calibri"/>
              </a:rPr>
              <a:t> </a:t>
            </a:r>
            <a:r>
              <a:rPr b="0" i="1" lang="de-DE" sz="1200" spc="-1" strike="noStrike">
                <a:solidFill>
                  <a:srgbClr val="000000"/>
                </a:solidFill>
                <a:latin typeface="Calibri"/>
              </a:rPr>
              <a:t>determinare</a:t>
            </a:r>
            <a:r>
              <a:rPr b="0" lang="de-DE" sz="1200" spc="-1" strike="noStrike">
                <a:solidFill>
                  <a:srgbClr val="000000"/>
                </a:solidFill>
                <a:latin typeface="Calibri"/>
              </a:rPr>
              <a:t> „abgrenzen“, „bestimmen“) ist die Auffassung, dass alle – insbesondere auch zukünftige – Ereignisse durch Vorbedingungen eindeutig festgelegt sind. (http://de.wikipedia.org/wiki/Determinismu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000000"/>
                </a:solidFill>
                <a:latin typeface="Calibri"/>
              </a:rPr>
              <a:t>Textgrundlage 2</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Danton. Ja, das hab ich; das war Notwehr, wir mußten. Der Mann am Kreuze hat sich's bequem gemacht: es muß ja Ärgernis kommen, doch wehe dem, durch welchen Ärgernis kommt! – Es muß; das war dies Muß. Wer will der Hand fluchen, auf die der Fluch des Muß gefallen? Wer hat das Muß gesprochen, wer? Was ist das, was in uns lügt, hurt, stiehlt und morde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Puppen sind wir, von unbekannten Gewalten am Draht gezogen; nichts, nichts wir selbst! die Schwerter, mit denen Geister kämpfen – man sieht nur die Hände nicht, wie im Märchen.(II,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000000"/>
                </a:solidFill>
                <a:latin typeface="Calibri"/>
              </a:rPr>
              <a:t>Textgrundlage 3</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0000"/>
                </a:solidFill>
                <a:latin typeface="Calibri"/>
              </a:rPr>
              <a:t>„</a:t>
            </a:r>
            <a:r>
              <a:rPr b="0" lang="de-DE" sz="1400" spc="-1" strike="noStrike">
                <a:solidFill>
                  <a:srgbClr val="000000"/>
                </a:solidFill>
                <a:latin typeface="Calibri"/>
              </a:rPr>
              <a:t>Schon seit einigen Tagen nehme ich jeden Augenblick die Feder in die Hand, aber es war mir unmöglich, nur ein Wort zu schreiben. Ich studiere die Geschichte der Revolution. Ich fühlte mich wie zernichtet unter dem Gräßlichen Fatalismus der Geschichte. Ich finde in der Menschennatur eine entsetzliche Gleichheit, in den menschlichen Verhältnissen eine unabwendbare Gewalt, Allen und Keinem verliehen. Der Einzelne nur Schaum auf der Welle, die Größe ein bloßer Zufall, die Herrschaft des Genies ein Puppenspiel, ein lächerliches Ringen gegen ein ehernes Gesetz, es zu erkennen das Höchste, es zu beherrschen unmöglich...“ (Büchner, 10.03.1834)</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000000"/>
                </a:solidFill>
                <a:latin typeface="Calibri"/>
              </a:rPr>
              <a:t>Aufgabe:</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0000"/>
                </a:solidFill>
                <a:latin typeface="Calibri"/>
              </a:rPr>
              <a:t>Tragen Sie in die Sprechblase ein, welche Aspekte des Determinismus`in den Textstellen angesprochen sind.</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32"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A900D5-27EC-49E0-8B1A-E6368BD9856A}"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000000"/>
                </a:solidFill>
                <a:latin typeface="Calibri"/>
              </a:rPr>
              <a:t>Textgrundlage 1</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Danton. Die Welt ist das Chaos. Das Nichts ist der zu gebärende Weltgott. (IV,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000000"/>
                </a:solidFill>
                <a:latin typeface="Calibri"/>
              </a:rPr>
              <a:t>Textgrundlage 2</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Der Begriff Nihilismus (lat. nihil – „nichts</a:t>
            </a:r>
            <a:r>
              <a:rPr b="0" lang="ja-JP" sz="1200" spc="-1" strike="noStrike">
                <a:solidFill>
                  <a:srgbClr val="000000"/>
                </a:solidFill>
                <a:latin typeface="Calibri"/>
              </a:rPr>
              <a:t>“</a:t>
            </a:r>
            <a:r>
              <a:rPr b="0" lang="de-DE" sz="1200" spc="-1" strike="noStrike">
                <a:solidFill>
                  <a:srgbClr val="000000"/>
                </a:solidFill>
                <a:latin typeface="Calibri"/>
              </a:rPr>
              <a:t>) bezeichnet allgemein eine Orientierung, die auf der Verneinung jeglicher Seins-, Erkenntnis-, Wert- und Gesellschaftsordnung basiert. Er wurde in der abendländischen Geschichte auch polemisch verwendet, so etwa für die Ablehnung von Kirche und Religion. Umgangssprachlich bedeutet Nihilismus die Verneinung aller positiven und negativen Ansätz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000000"/>
                </a:solidFill>
                <a:latin typeface="Calibri"/>
              </a:rPr>
              <a:t>Aufgabe:</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0000"/>
                </a:solidFill>
                <a:latin typeface="Calibri"/>
              </a:rPr>
              <a:t>Tragen Sie in die Sprechblase ein, welche Aspekte des Nihilismus` von Danton vertreten werden.</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3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D440CE-F3DF-4CAE-B6DF-1B970DAD2BD7}"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000000"/>
                </a:solidFill>
                <a:latin typeface="Calibri"/>
              </a:rPr>
              <a:t>Textgrundlage</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0000"/>
                </a:solidFill>
                <a:latin typeface="Calibri"/>
              </a:rPr>
              <a:t>ROBESPIERRE. Du leugnest die Tugend?</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0000"/>
                </a:solidFill>
                <a:latin typeface="Calibri"/>
              </a:rPr>
              <a:t>DANTON. Und das Laster. </a:t>
            </a:r>
            <a:r>
              <a:rPr b="0" lang="de-DE" sz="1400" spc="-1" strike="noStrike">
                <a:solidFill>
                  <a:srgbClr val="7f7f7f"/>
                </a:solidFill>
                <a:latin typeface="Calibri"/>
              </a:rPr>
              <a:t>Es gibt nur Epikureer, und zwar grobe und feine, Christus war der feinste; das ist der einzige Unterschied, den ich zwischen den Menschen herausbringen kann. Jeder handelt seiner Natur gemäß, d.h. er tut, was ihm wohltut...</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7f7f7f"/>
                </a:solidFill>
                <a:latin typeface="Calibri"/>
              </a:rPr>
              <a:t>(G. Büchner, Dantons Tod I,5)</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000000"/>
                </a:solidFill>
                <a:latin typeface="Calibri"/>
              </a:rPr>
              <a:t>Aufgabe:</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0000"/>
                </a:solidFill>
                <a:latin typeface="Calibri"/>
              </a:rPr>
              <a:t>Tragen Sie in die Sprechblase ein, welche Aussage Danton zum Laster und zur Tugend macht und welche Bedeutung er der „Natur</a:t>
            </a:r>
            <a:r>
              <a:rPr b="0" lang="ja-JP" sz="1400" spc="-1" strike="noStrike">
                <a:solidFill>
                  <a:srgbClr val="000000"/>
                </a:solidFill>
                <a:latin typeface="Calibri"/>
              </a:rPr>
              <a:t>“</a:t>
            </a:r>
            <a:r>
              <a:rPr b="0" lang="de-DE" sz="1400" spc="-1" strike="noStrike">
                <a:solidFill>
                  <a:srgbClr val="000000"/>
                </a:solidFill>
                <a:latin typeface="Calibri"/>
              </a:rPr>
              <a:t> zuweist.</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90"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7862E-ED77-487A-9BDB-17CC1528D93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000000"/>
                </a:solidFill>
                <a:latin typeface="Calibri"/>
              </a:rPr>
              <a:t>Aufgabe:</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0000"/>
                </a:solidFill>
                <a:latin typeface="Calibri"/>
              </a:rPr>
              <a:t>Tragen Sie in die Box ein, welche Handlungsweisen Sie der Beschreibung zuweisen.</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93"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9ACE49-352F-42F3-8C0D-2A7F770BF8DB}"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000000"/>
                </a:solidFill>
                <a:latin typeface="Calibri"/>
              </a:rPr>
              <a:t>Textgrundlage</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7f7f7f"/>
                </a:solidFill>
                <a:latin typeface="Calibri"/>
              </a:rPr>
              <a:t>Epikur (griechisch Ἐπίκουρος, Epíkouros; * um 341 v. Chr. auf Samos; † 271 oder 270 v. Chr. in Athen) war ein griechischer Philosoph und Begründer des Epikureismus. ...Epikurs Ethiklehre zielt im Kern auf Erhöhung und Verstetigung der Lebensfreude durch den Genuss eines jeden Tages, womöglich jeden Augenblicks, wie es das Motto des Horaz: carpe diem (nutze den Tag) besagt. Dazu gilt es, alle Beeinträchtigungen des Seelenfriedens zu vermeiden bzw. zu überwinden, die aus Begierden, Furcht und Schmerz erwachsen können. Die Lust am Leben stetig auszukosten, macht die Kunst des epikureischen Weisen aus.[12]</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7f7f7f"/>
                </a:solidFill>
                <a:latin typeface="Calibri"/>
              </a:rPr>
              <a:t>(http://de.wikipedia.org/wiki/Epikur, 27.11.2011)</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000000"/>
                </a:solidFill>
                <a:latin typeface="Calibri"/>
              </a:rPr>
              <a:t>Aufgabe:</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0000"/>
                </a:solidFill>
                <a:latin typeface="Calibri"/>
              </a:rPr>
              <a:t>Vervollständigen Sie die Sprechblase.</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96"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CB9BEF-FC80-433B-AB8A-593EF4A04AE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300" spc="-1" strike="noStrike">
                <a:solidFill>
                  <a:srgbClr val="000000"/>
                </a:solidFill>
                <a:latin typeface="Calibri"/>
              </a:rPr>
              <a:t>Textgrundlage</a:t>
            </a:r>
            <a:endParaRPr b="0" lang="en-US" sz="13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300" spc="-1" strike="noStrike">
                <a:solidFill>
                  <a:srgbClr val="000000"/>
                </a:solidFill>
                <a:latin typeface="Calibri"/>
              </a:rPr>
              <a:t>MARION. [...] </a:t>
            </a:r>
            <a:r>
              <a:rPr b="0" lang="de-DE" sz="1100" spc="-1" strike="noStrike">
                <a:solidFill>
                  <a:srgbClr val="000000"/>
                </a:solidFill>
                <a:latin typeface="Calibri"/>
              </a:rPr>
              <a:t>Aber ich wurde wie ein Meer, was alles verschlang und sich tiefer und tiefer wühlte. Es war für mich nur ein Gegensatz da, alle Männer verschmolzen in einen Leib. Meine Natur war einmal so, wer kann da drüber hinaus</a:t>
            </a:r>
            <a:r>
              <a:rPr b="0" lang="de-DE" sz="1100" spc="-1" strike="noStrike">
                <a:solidFill>
                  <a:srgbClr val="7f7f7f"/>
                </a:solidFill>
                <a:latin typeface="Calibri"/>
              </a:rPr>
              <a:t>? Endlich merkt' er's. Er kam eines Morgens und küsste mich, als wollte er mich ersticken; seine Arme schnürten sich um meinen Hals, ich war in unsäglicher Angst. Da ließ er mich los und lachte und sagte: er hätte fast einen dummen Streich gemacht; ich solle mein Kleid nur behalten und es brauchen, es würde sich schon von selbst abtragen, er wolle mir den Spaß nicht vor der Zeit verderben, es wäre doch das einzige, was ich hätte. Dann ging er; ich wusste wieder nicht, was er wollte. Den Abend saß ich am Fenster; ich bin sehr reizbar und hänge mit allem um mich nur durch eine Empfindung zusammen; ich versank in die Wellen der Abendröte. Da kam ein Haufe die Straße herab, die Kinder liefen voraus, die Weiber sahen aus den Fenstern. Ich sah hinunter: sie trugen ihn in einem Korb vorbei, der Mond schien auf seine bleiche Stirn, seine Locken waren feucht, er hatte sich ersäuft. Ich musste weinen. – Das war der einzige Bruch in meinem Wesen. </a:t>
            </a:r>
            <a:r>
              <a:rPr b="0" lang="de-DE" sz="1100" spc="-1" strike="noStrike">
                <a:solidFill>
                  <a:srgbClr val="000000"/>
                </a:solidFill>
                <a:latin typeface="Calibri"/>
              </a:rPr>
              <a:t>Die andern Leute haben Sonn- und Werktage, sie arbeiten sechs Tage und beten am siebenten, sie sind jedes Jahr auf ihren Geburtstag einmal gerührt und denken jedes Jahr auf Neujahr einmal nach. Ich begreife nichts davon: ich kenne keinen Absatz, keine Veränderung. Ich bin immer nur eins; ein ununterbrochenes Sehnen und Fassen, eine Glut, ein Strom. </a:t>
            </a:r>
            <a:r>
              <a:rPr b="0" lang="de-DE" sz="1100" spc="-1" strike="noStrike">
                <a:solidFill>
                  <a:srgbClr val="7f7f7f"/>
                </a:solidFill>
                <a:latin typeface="Calibri"/>
              </a:rPr>
              <a:t>Meine Mutter ist vor Gram gestorben; die Leute weisen mit Fingern auf mich. Das ist dumm. </a:t>
            </a:r>
            <a:r>
              <a:rPr b="0" lang="de-DE" sz="1100" spc="-1" strike="noStrike">
                <a:solidFill>
                  <a:srgbClr val="000000"/>
                </a:solidFill>
                <a:latin typeface="Calibri"/>
              </a:rPr>
              <a:t>Es läuft auf eins hinaus, an was man seine Freude hat, an Leibern, Christusbildern, Blumen oder Kinderspielsachen; es ist das nämliche Gefühl; wer am meisten genießt, betet am meisten.</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300" spc="-1" strike="noStrike">
                <a:solidFill>
                  <a:srgbClr val="7f7f7f"/>
                </a:solidFill>
                <a:latin typeface="Calibri"/>
              </a:rPr>
              <a:t>(G. Büchner, Dantons Tod I,5)</a:t>
            </a:r>
            <a:endParaRPr b="0" lang="en-US" sz="13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300" spc="-1" strike="noStrike">
                <a:solidFill>
                  <a:srgbClr val="000000"/>
                </a:solidFill>
                <a:latin typeface="Calibri"/>
              </a:rPr>
              <a:t>Aufgabe:</a:t>
            </a:r>
            <a:endParaRPr b="0" lang="en-US" sz="13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300" spc="-1" strike="noStrike">
                <a:solidFill>
                  <a:srgbClr val="000000"/>
                </a:solidFill>
                <a:latin typeface="Calibri"/>
              </a:rPr>
              <a:t>Tragen Sie in die Sprechblase ein, welche Bedeutung Marion ihrer Natur zuordnet.</a:t>
            </a:r>
            <a:endParaRPr b="0" lang="en-US" sz="13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99"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83AA22-C189-4627-99BD-16F0D9350834}"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300" spc="-1" strike="noStrike">
                <a:solidFill>
                  <a:srgbClr val="000000"/>
                </a:solidFill>
                <a:latin typeface="Calibri"/>
              </a:rPr>
              <a:t>Textgrundlage</a:t>
            </a:r>
            <a:endParaRPr b="0" lang="en-US" sz="13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300" spc="-1" strike="noStrike">
                <a:solidFill>
                  <a:srgbClr val="000000"/>
                </a:solidFill>
                <a:latin typeface="Calibri"/>
              </a:rPr>
              <a:t>MARION. [...] </a:t>
            </a:r>
            <a:r>
              <a:rPr b="0" lang="de-DE" sz="1100" spc="-1" strike="noStrike">
                <a:solidFill>
                  <a:srgbClr val="000000"/>
                </a:solidFill>
                <a:latin typeface="Calibri"/>
              </a:rPr>
              <a:t>Aber ich wurde wie ein Meer, was alles verschlang und sich tiefer und tiefer wühlte. Es war für mich nur ein Gegensatz da, alle Männer verschmolzen in einen Leib. Meine Natur war einmal so, wer kann da drüber hinaus? Endlich merkt' er's. Er kam eines Morgens und küsste mich, als wollte er mich ersticken; seine Arme schnürten sich um meinen Hals, ich war in unsäglicher Angst. Da ließ er mich los und lachte und sagte: er hätte fast einen dummen Streich gemacht; ich solle mein Kleid nur behalten und es brauchen, es würde sich schon von selbst abtragen, er wolle mir den Spaß nicht vor der Zeit verderben, es wäre doch das einzige, was ich hätte. Dann ging er; ich wusste wieder nicht, was er wollte. Den Abend saß ich am Fenster; ich bin sehr reizbar und hänge mit allem um mich nur durch eine Empfindung zusammen; ich versank in die Wellen der Abendröte. Da kam ein Haufe die Straße herab, die Kinder liefen voraus, die Weiber sahen aus den Fenstern. Ich sah hinunter: sie trugen ihn in einem Korb vorbei, der Mond schien auf seine bleiche Stirn, seine Locken waren feucht, er hatte sich ersäuft. Ich musste weinen. – Das war der einzige Bruch in meinem Wesen. Die andern Leute haben Sonn- und Werktage, sie arbeiten sechs Tage und beten am siebenten, sie sind jedes Jahr auf ihren Geburtstag einmal gerührt und denken jedes Jahr auf Neujahr einmal nach. Ich begreife nichts davon: ich kenne keinen Absatz, keine Veränderung. Ich bin immer nur eins; ein ununterbrochenes Sehnen und Fassen, eine Glut, ein Strom. Meine Mutter ist vor Gram gestorben; die Leute weisen mit Fingern auf mich. Das ist dumm. Es läuft auf eins hinaus, an was man seine Freude hat, an Leibern, Christusbildern, Blumen oder Kinderspielsachen; es ist das nämliche Gefühl; </a:t>
            </a:r>
            <a:r>
              <a:rPr b="0" lang="de-DE" sz="1100" spc="-1" strike="noStrike">
                <a:solidFill>
                  <a:srgbClr val="7f7f7f"/>
                </a:solidFill>
                <a:latin typeface="Calibri"/>
              </a:rPr>
              <a:t>wer am meisten genießt, betet am meisten.</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300" spc="-1" strike="noStrike">
                <a:solidFill>
                  <a:srgbClr val="7f7f7f"/>
                </a:solidFill>
                <a:latin typeface="Calibri"/>
              </a:rPr>
              <a:t>(G. Büchner, Dantons Tod I,5)</a:t>
            </a:r>
            <a:endParaRPr b="0" lang="en-US" sz="13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300" spc="-1" strike="noStrike">
                <a:solidFill>
                  <a:srgbClr val="000000"/>
                </a:solidFill>
                <a:latin typeface="Calibri"/>
              </a:rPr>
              <a:t>Aufgabe:</a:t>
            </a:r>
            <a:endParaRPr b="0" lang="en-US" sz="13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300" spc="-1" strike="noStrike">
                <a:solidFill>
                  <a:srgbClr val="000000"/>
                </a:solidFill>
                <a:latin typeface="Calibri"/>
              </a:rPr>
              <a:t>Tragen Sie in die Sprechblase ein, warum die Leute nach Marions Ansicht dumm sind. </a:t>
            </a:r>
            <a:endParaRPr b="0" lang="en-US" sz="13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102"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3CE25F-3FFB-401C-83EE-14386B6BC97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300" spc="-1" strike="noStrike">
                <a:solidFill>
                  <a:srgbClr val="000000"/>
                </a:solidFill>
                <a:latin typeface="Calibri"/>
              </a:rPr>
              <a:t>Textgrundlage</a:t>
            </a:r>
            <a:endParaRPr b="0" lang="en-US" sz="13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300" spc="-1" strike="noStrike">
                <a:solidFill>
                  <a:srgbClr val="000000"/>
                </a:solidFill>
                <a:latin typeface="Calibri"/>
              </a:rPr>
              <a:t>MARION. [...] </a:t>
            </a:r>
            <a:r>
              <a:rPr b="0" lang="de-DE" sz="1100" spc="-1" strike="noStrike">
                <a:solidFill>
                  <a:srgbClr val="7f7f7f"/>
                </a:solidFill>
                <a:latin typeface="Calibri"/>
              </a:rPr>
              <a:t>Aber ich wurde wie ein Meer, was alles verschlang und sich tiefer und tiefer wühlte. Es war für mich nur ein Gegensatz da, alle Männer verschmolzen in einen Leib. Meine Natur war einmal so, wer kann da drüber hinaus? Endlich merkt' er's. Er kam eines Morgens und küsste mich, als wollte er mich ersticken; seine Arme schnürten sich um meinen Hals, ich war in unsäglicher Angst. Da ließ er mich los und lachte und sagte: er hätte fast einen dummen Streich gemacht; ich solle mein Kleid nur behalten und es brauchen, es würde sich schon von selbst abtragen, er wolle mir den Spaß nicht vor der Zeit verderben, es wäre doch das einzige, was ich hätte. Dann ging er; ich wusste wieder nicht, was er wollte. Den Abend saß ich am Fenster; ich bin sehr reizbar und hänge mit allem um mich nur durch eine Empfindung zusammen; ich versank in die Wellen der Abendröte. Da kam ein Haufe die Straße herab, die Kinder liefen voraus, die Weiber sahen aus den Fenstern. Ich sah hinunter: sie trugen ihn in einem Korb vorbei, der Mond schien auf seine bleiche Stirn, seine Locken waren feucht, er hatte sich ersäuft. Ich musste weinen. – Das war der einzige Bruch in meinem Wesen. Die andern Leute haben Sonn- und Werktage, sie arbeiten sechs Tage und beten am siebenten, sie sind jedes Jahr auf ihren Geburtstag einmal gerührt und denken jedes Jahr auf Neujahr einmal nach. Ich begreife nichts davon: ich kenne keinen Absatz, keine Veränderung. Ich bin immer nur eins; ein ununterbrochenes Sehnen und Fassen, eine Glut, ein Strom. Meine Mutter ist vor Gram gestorben; die Leute weisen mit Fingern auf mich. Das ist dumm. Es läuft auf eins hinaus, an was man seine Freude hat, an Leibern, Christusbildern, Blumen oder Kinderspielsachen; es ist das nämliche Gefühl; </a:t>
            </a:r>
            <a:r>
              <a:rPr b="0" lang="de-DE" sz="1100" spc="-1" strike="noStrike">
                <a:solidFill>
                  <a:srgbClr val="000000"/>
                </a:solidFill>
                <a:latin typeface="Calibri"/>
              </a:rPr>
              <a:t>wer am meisten genießt, betet am meisten.</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300" spc="-1" strike="noStrike">
                <a:solidFill>
                  <a:srgbClr val="7f7f7f"/>
                </a:solidFill>
                <a:latin typeface="Calibri"/>
              </a:rPr>
              <a:t>(G. Büchner, Dantons Tod I,5)</a:t>
            </a:r>
            <a:endParaRPr b="0" lang="en-US" sz="13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300" spc="-1" strike="noStrike">
                <a:solidFill>
                  <a:srgbClr val="000000"/>
                </a:solidFill>
                <a:latin typeface="Calibri"/>
              </a:rPr>
              <a:t>Aufgabe:</a:t>
            </a:r>
            <a:endParaRPr b="0" lang="en-US" sz="13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300" spc="-1" strike="noStrike">
                <a:solidFill>
                  <a:srgbClr val="000000"/>
                </a:solidFill>
                <a:latin typeface="Calibri"/>
              </a:rPr>
              <a:t>Schreiben Sie auf, welche Bedeutung diese Aussage hat.</a:t>
            </a:r>
            <a:endParaRPr b="0" lang="en-US" sz="13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10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8A722-8F0A-42E2-A529-8369E3C85C21}"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Calibri"/>
            </a:endParaRPr>
          </a:p>
        </p:txBody>
      </p:sp>
      <p:sp>
        <p:nvSpPr>
          <p:cNvPr id="10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DC6F53-3501-41FE-9E24-CC265CA62E61}"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000000"/>
                </a:solidFill>
                <a:latin typeface="Calibri"/>
              </a:rPr>
              <a:t>Textgrundl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PAYNE. Erst beweist ihr Gott aus der Moral und dann die Moral aus Gott! – Was wollt ihr denn mit eurer Moral? Ich weiß nicht, ob es an und für sich was Böses oder was Gutes gibt, und habe deswegen doch nicht nötig, meine Handlungsweise zu ändern. Ich handle meiner Natur gemäß; was ihr angemessen, ist für mich gut und ich tue es, und was ihr zuwider, ist für mich bös und ich tue es nicht und verteidige mich dagegen, wenn es mir in den Weg kommt...(III,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de-DE" sz="1200" spc="-1" strike="noStrike">
                <a:solidFill>
                  <a:srgbClr val="000000"/>
                </a:solidFill>
                <a:latin typeface="Calibri"/>
              </a:rPr>
              <a:t>Aufgabe: Ergänzen Sie die Aussage Payn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B98FDA-0ECF-4FAA-8E32-7EF28A50398F}"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89459-B498-49CE-AE87-D967F50C5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F948E-4EA2-4EFF-BB9D-BE79763E8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707EF-CFC9-4909-A2AE-70246D5F2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1D237-314B-4568-BD6D-15E524C9B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B28E9-0AD3-42C4-A3CE-FEDF625A3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39017-CA13-47E2-BEBB-81B9D9BA7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71540-0770-4FEA-A73D-BE265F42D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DFD80-2115-41D9-8896-E097326A8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10FF5-738E-4826-A76A-360248D3D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6294F-642C-4217-AAC6-6BD669C46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D5BA3-BF0A-402C-9FC0-5617D18FC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18698-B6AA-4E09-8DAD-F949D5FB2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0D00A2-AD9A-4158-A20C-15918DB900BB}" type="datetime">
              <a:rPr b="0" lang="de-DE"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79AFB-BA45-4132-BFF3-96E8D5255CC3}"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feld 1"/>
          <p:cNvSpPr/>
          <p:nvPr/>
        </p:nvSpPr>
        <p:spPr>
          <a:xfrm>
            <a:off x="63720" y="388800"/>
            <a:ext cx="467028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5300" spc="-1" strike="noStrike">
                <a:solidFill>
                  <a:srgbClr val="000000"/>
                </a:solidFill>
                <a:latin typeface="Impact"/>
                <a:ea typeface="Impact"/>
              </a:rPr>
              <a:t>Danton und ...</a:t>
            </a:r>
            <a:endParaRPr b="0" lang="en-US" sz="5300" spc="-1" strike="noStrike">
              <a:solidFill>
                <a:srgbClr val="000000"/>
              </a:solidFill>
              <a:latin typeface="Arial"/>
            </a:endParaRPr>
          </a:p>
        </p:txBody>
      </p:sp>
      <p:sp>
        <p:nvSpPr>
          <p:cNvPr id="49" name="Textfeld 2"/>
          <p:cNvSpPr/>
          <p:nvPr/>
        </p:nvSpPr>
        <p:spPr>
          <a:xfrm>
            <a:off x="3241800" y="1795320"/>
            <a:ext cx="5889600" cy="128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7800" spc="-1" strike="noStrike">
                <a:solidFill>
                  <a:srgbClr val="558ed5"/>
                </a:solidFill>
                <a:latin typeface="Impact"/>
                <a:ea typeface="Impact"/>
              </a:rPr>
              <a:t>Epikurismus</a:t>
            </a:r>
            <a:endParaRPr b="0" lang="en-US" sz="7800" spc="-1" strike="noStrike">
              <a:solidFill>
                <a:srgbClr val="000000"/>
              </a:solidFill>
              <a:latin typeface="Arial"/>
            </a:endParaRPr>
          </a:p>
        </p:txBody>
      </p:sp>
      <p:sp>
        <p:nvSpPr>
          <p:cNvPr id="50" name="Textfeld 3"/>
          <p:cNvSpPr/>
          <p:nvPr/>
        </p:nvSpPr>
        <p:spPr>
          <a:xfrm>
            <a:off x="1669680" y="2590920"/>
            <a:ext cx="6773400" cy="128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800" spc="-1" strike="noStrike">
                <a:solidFill>
                  <a:srgbClr val="d99694"/>
                </a:solidFill>
                <a:latin typeface="Impact"/>
                <a:ea typeface="Impact"/>
              </a:rPr>
              <a:t>Materialismus</a:t>
            </a:r>
            <a:endParaRPr b="0" lang="en-US" sz="7800" spc="-1" strike="noStrike">
              <a:solidFill>
                <a:srgbClr val="000000"/>
              </a:solidFill>
              <a:latin typeface="Arial"/>
            </a:endParaRPr>
          </a:p>
        </p:txBody>
      </p:sp>
      <p:sp>
        <p:nvSpPr>
          <p:cNvPr id="51" name="Textfeld 4"/>
          <p:cNvSpPr/>
          <p:nvPr/>
        </p:nvSpPr>
        <p:spPr>
          <a:xfrm>
            <a:off x="3331440" y="3624120"/>
            <a:ext cx="5240520" cy="128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800" spc="-1" strike="noStrike">
                <a:solidFill>
                  <a:srgbClr val="b7dee8"/>
                </a:solidFill>
                <a:latin typeface="Impact"/>
                <a:ea typeface="Impact"/>
              </a:rPr>
              <a:t>Idealismus</a:t>
            </a:r>
            <a:endParaRPr b="0" lang="en-US" sz="7800" spc="-1" strike="noStrike">
              <a:solidFill>
                <a:srgbClr val="000000"/>
              </a:solidFill>
              <a:latin typeface="Arial"/>
            </a:endParaRPr>
          </a:p>
        </p:txBody>
      </p:sp>
      <p:sp>
        <p:nvSpPr>
          <p:cNvPr id="52" name="Textfeld 5"/>
          <p:cNvSpPr/>
          <p:nvPr/>
        </p:nvSpPr>
        <p:spPr>
          <a:xfrm>
            <a:off x="236880" y="1297080"/>
            <a:ext cx="5057640" cy="128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800" spc="-1" strike="noStrike">
                <a:solidFill>
                  <a:srgbClr val="bfbfbf"/>
                </a:solidFill>
                <a:latin typeface="Impact"/>
                <a:ea typeface="Impact"/>
              </a:rPr>
              <a:t>Nihilismus</a:t>
            </a:r>
            <a:endParaRPr b="0" lang="en-US" sz="7800" spc="-1" strike="noStrike">
              <a:solidFill>
                <a:srgbClr val="000000"/>
              </a:solidFill>
              <a:latin typeface="Arial"/>
            </a:endParaRPr>
          </a:p>
        </p:txBody>
      </p:sp>
      <p:sp>
        <p:nvSpPr>
          <p:cNvPr id="53" name="Textfeld 6"/>
          <p:cNvSpPr/>
          <p:nvPr/>
        </p:nvSpPr>
        <p:spPr>
          <a:xfrm>
            <a:off x="3906720" y="5562720"/>
            <a:ext cx="530892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5300" spc="-1" strike="noStrike">
                <a:solidFill>
                  <a:srgbClr val="000000"/>
                </a:solidFill>
                <a:latin typeface="Impact"/>
                <a:ea typeface="Impact"/>
              </a:rPr>
              <a:t>... und die Moral</a:t>
            </a:r>
            <a:endParaRPr b="0" lang="en-US" sz="5300" spc="-1" strike="noStrike">
              <a:solidFill>
                <a:srgbClr val="000000"/>
              </a:solidFill>
              <a:latin typeface="Arial"/>
            </a:endParaRPr>
          </a:p>
        </p:txBody>
      </p:sp>
      <p:sp>
        <p:nvSpPr>
          <p:cNvPr id="54" name="Textfeld 7"/>
          <p:cNvSpPr/>
          <p:nvPr/>
        </p:nvSpPr>
        <p:spPr>
          <a:xfrm>
            <a:off x="4079880" y="650880"/>
            <a:ext cx="5164200" cy="128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7800" spc="-1" strike="noStrike">
                <a:solidFill>
                  <a:srgbClr val="0000ff"/>
                </a:solidFill>
                <a:latin typeface="Impact"/>
                <a:ea typeface="Impact"/>
              </a:rPr>
              <a:t>Fatalismus</a:t>
            </a:r>
            <a:endParaRPr b="0" lang="en-US" sz="7800" spc="-1" strike="noStrike">
              <a:solidFill>
                <a:srgbClr val="000000"/>
              </a:solidFill>
              <a:latin typeface="Arial"/>
            </a:endParaRPr>
          </a:p>
        </p:txBody>
      </p:sp>
      <p:sp>
        <p:nvSpPr>
          <p:cNvPr id="55" name="Textfeld 8"/>
          <p:cNvSpPr/>
          <p:nvPr/>
        </p:nvSpPr>
        <p:spPr>
          <a:xfrm>
            <a:off x="61200" y="4572000"/>
            <a:ext cx="7328160" cy="128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800" spc="-1" strike="noStrike">
                <a:solidFill>
                  <a:srgbClr val="b3a2c7"/>
                </a:solidFill>
                <a:latin typeface="Impact"/>
                <a:ea typeface="Impact"/>
              </a:rPr>
              <a:t>Determinismus</a:t>
            </a:r>
            <a:endParaRPr b="0" lang="en-US" sz="7800" spc="-1" strike="noStrike">
              <a:solidFill>
                <a:srgbClr val="000000"/>
              </a:solidFill>
              <a:latin typeface="Arial"/>
            </a:endParaRPr>
          </a:p>
        </p:txBody>
      </p:sp>
      <p:sp>
        <p:nvSpPr>
          <p:cNvPr id="56" name="Textfeld 9"/>
          <p:cNvSpPr/>
          <p:nvPr/>
        </p:nvSpPr>
        <p:spPr>
          <a:xfrm>
            <a:off x="133200" y="3279600"/>
            <a:ext cx="3704040" cy="128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800" spc="-1" strike="noStrike">
                <a:solidFill>
                  <a:srgbClr val="c3d69b"/>
                </a:solidFill>
                <a:latin typeface="Impact"/>
                <a:ea typeface="Impact"/>
              </a:rPr>
              <a:t>Freiheit</a:t>
            </a:r>
            <a:endParaRPr b="0" lang="en-US" sz="7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Abgerundete rechteckige Legende 1"/>
          <p:cNvSpPr/>
          <p:nvPr/>
        </p:nvSpPr>
        <p:spPr>
          <a:xfrm>
            <a:off x="3492360" y="3065400"/>
            <a:ext cx="4584960" cy="3114720"/>
          </a:xfrm>
          <a:prstGeom prst="wedgeRoundRectCallout">
            <a:avLst>
              <a:gd name="adj1" fmla="val 23782"/>
              <a:gd name="adj2" fmla="val 58273"/>
              <a:gd name="adj3" fmla="val 16667"/>
            </a:avLst>
          </a:prstGeom>
          <a:gradFill rotWithShape="0">
            <a:gsLst>
              <a:gs pos="0">
                <a:srgbClr val="f0eaf9"/>
              </a:gs>
              <a:gs pos="100000">
                <a:srgbClr val="c9b5e8"/>
              </a:gs>
            </a:gsLst>
            <a:lin ang="5400000"/>
          </a:gradFill>
          <a:ln w="9360">
            <a:solidFill>
              <a:srgbClr val="7d60a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2" name="Bild 3" descr=""/>
          <p:cNvPicPr/>
          <p:nvPr/>
        </p:nvPicPr>
        <p:blipFill>
          <a:blip r:embed="rId1"/>
          <a:stretch/>
        </p:blipFill>
        <p:spPr>
          <a:xfrm>
            <a:off x="525600" y="297000"/>
            <a:ext cx="2547720" cy="2547720"/>
          </a:xfrm>
          <a:prstGeom prst="rect">
            <a:avLst/>
          </a:prstGeom>
          <a:ln w="0">
            <a:noFill/>
          </a:ln>
        </p:spPr>
      </p:pic>
      <p:sp>
        <p:nvSpPr>
          <p:cNvPr id="73" name="Abgerundete rechteckige Legende 6"/>
          <p:cNvSpPr/>
          <p:nvPr/>
        </p:nvSpPr>
        <p:spPr>
          <a:xfrm>
            <a:off x="3645000" y="297000"/>
            <a:ext cx="4584600" cy="1819080"/>
          </a:xfrm>
          <a:prstGeom prst="wedgeRoundRectCallout">
            <a:avLst>
              <a:gd name="adj1" fmla="val -57842"/>
              <a:gd name="adj2" fmla="val -24893"/>
              <a:gd name="adj3"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Was sagt die moderne Hirnforschung dazu?</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feld 1"/>
          <p:cNvSpPr/>
          <p:nvPr/>
        </p:nvSpPr>
        <p:spPr>
          <a:xfrm>
            <a:off x="1015920" y="627120"/>
            <a:ext cx="7383600" cy="57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9200" spc="-1" strike="noStrike">
                <a:solidFill>
                  <a:srgbClr val="000000"/>
                </a:solidFill>
                <a:latin typeface="Impact"/>
                <a:ea typeface="Impact"/>
              </a:rPr>
              <a:t>Woran können wir dann noch glauben?</a:t>
            </a:r>
            <a:endParaRPr b="0" lang="en-US" sz="9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Bild 3" descr="danton.jpg"/>
          <p:cNvPicPr/>
          <p:nvPr/>
        </p:nvPicPr>
        <p:blipFill>
          <a:blip r:embed="rId1"/>
          <a:stretch/>
        </p:blipFill>
        <p:spPr>
          <a:xfrm flipH="1">
            <a:off x="790200" y="1976400"/>
            <a:ext cx="5543640" cy="4245120"/>
          </a:xfrm>
          <a:prstGeom prst="rect">
            <a:avLst/>
          </a:prstGeom>
          <a:ln w="0">
            <a:noFill/>
          </a:ln>
        </p:spPr>
      </p:pic>
      <p:sp>
        <p:nvSpPr>
          <p:cNvPr id="76" name="Abgerundete rechteckige Legende 3"/>
          <p:cNvSpPr/>
          <p:nvPr/>
        </p:nvSpPr>
        <p:spPr>
          <a:xfrm>
            <a:off x="4186080" y="185760"/>
            <a:ext cx="4584960" cy="2878200"/>
          </a:xfrm>
          <a:prstGeom prst="wedgeRoundRectCallout">
            <a:avLst>
              <a:gd name="adj1" fmla="val -50828"/>
              <a:gd name="adj2" fmla="val 82736"/>
              <a:gd name="adj3" fmla="val 16667"/>
            </a:avLst>
          </a:prstGeom>
          <a:solidFill>
            <a:srgbClr val="ebf1de"/>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ch bin Materialist, da ...</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feld 1"/>
          <p:cNvSpPr/>
          <p:nvPr/>
        </p:nvSpPr>
        <p:spPr>
          <a:xfrm>
            <a:off x="1015920" y="627120"/>
            <a:ext cx="7383600" cy="710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9200" spc="-1" strike="noStrike">
                <a:solidFill>
                  <a:srgbClr val="000000"/>
                </a:solidFill>
                <a:latin typeface="Impact"/>
                <a:ea typeface="Impact"/>
              </a:rPr>
              <a:t>Ist der Mensch in seinen Handlungen frei?</a:t>
            </a:r>
            <a:endParaRPr b="0" lang="en-US" sz="9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Bild 1" descr=""/>
          <p:cNvPicPr/>
          <p:nvPr/>
        </p:nvPicPr>
        <p:blipFill>
          <a:blip r:embed="rId1"/>
          <a:stretch/>
        </p:blipFill>
        <p:spPr>
          <a:xfrm>
            <a:off x="5969160" y="423720"/>
            <a:ext cx="2793960" cy="3822840"/>
          </a:xfrm>
          <a:prstGeom prst="rect">
            <a:avLst/>
          </a:prstGeom>
          <a:ln w="0">
            <a:noFill/>
          </a:ln>
        </p:spPr>
      </p:pic>
      <p:sp>
        <p:nvSpPr>
          <p:cNvPr id="79" name="Abgerundete rechteckige Legende 3"/>
          <p:cNvSpPr/>
          <p:nvPr/>
        </p:nvSpPr>
        <p:spPr>
          <a:xfrm>
            <a:off x="376200" y="1998720"/>
            <a:ext cx="4584600" cy="4232160"/>
          </a:xfrm>
          <a:prstGeom prst="wedgeRoundRectCallout">
            <a:avLst>
              <a:gd name="adj1" fmla="val 76967"/>
              <a:gd name="adj2" fmla="val -44041"/>
              <a:gd name="adj3" fmla="val 16667"/>
            </a:avLst>
          </a:prstGeom>
          <a:solidFill>
            <a:srgbClr val="ebf1de"/>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ch bin Idealist, da ...</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feld 1"/>
          <p:cNvSpPr/>
          <p:nvPr/>
        </p:nvSpPr>
        <p:spPr>
          <a:xfrm>
            <a:off x="1015920" y="627120"/>
            <a:ext cx="7383600" cy="57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9200" spc="-1" strike="noStrike">
                <a:solidFill>
                  <a:srgbClr val="000000"/>
                </a:solidFill>
                <a:latin typeface="Impact"/>
                <a:ea typeface="Impact"/>
              </a:rPr>
              <a:t>Woran kann man dann noch glauben?</a:t>
            </a:r>
            <a:endParaRPr b="0" lang="en-US" sz="9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Abgerundete rechteckige Legende 3"/>
          <p:cNvSpPr/>
          <p:nvPr/>
        </p:nvSpPr>
        <p:spPr>
          <a:xfrm>
            <a:off x="376200" y="423720"/>
            <a:ext cx="4584600" cy="4638960"/>
          </a:xfrm>
          <a:prstGeom prst="wedgeRoundRectCallout">
            <a:avLst>
              <a:gd name="adj1" fmla="val 79180"/>
              <a:gd name="adj2" fmla="val 26828"/>
              <a:gd name="adj3" fmla="val 16667"/>
            </a:avLst>
          </a:prstGeom>
          <a:solidFill>
            <a:srgbClr val="ebf1de"/>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ch bin Determinist, da ...</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2" name="Bild 2" descr=""/>
          <p:cNvPicPr/>
          <p:nvPr/>
        </p:nvPicPr>
        <p:blipFill>
          <a:blip r:embed="rId1"/>
          <a:stretch/>
        </p:blipFill>
        <p:spPr>
          <a:xfrm>
            <a:off x="6205680" y="3063960"/>
            <a:ext cx="2184120" cy="312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Bild 3" descr="danton.jpg"/>
          <p:cNvPicPr/>
          <p:nvPr/>
        </p:nvPicPr>
        <p:blipFill>
          <a:blip r:embed="rId1"/>
          <a:stretch/>
        </p:blipFill>
        <p:spPr>
          <a:xfrm flipH="1">
            <a:off x="790200" y="1976400"/>
            <a:ext cx="5543640" cy="4245120"/>
          </a:xfrm>
          <a:prstGeom prst="rect">
            <a:avLst/>
          </a:prstGeom>
          <a:ln w="0">
            <a:noFill/>
          </a:ln>
        </p:spPr>
      </p:pic>
      <p:sp>
        <p:nvSpPr>
          <p:cNvPr id="84" name="Abgerundete rechteckige Legende 3"/>
          <p:cNvSpPr/>
          <p:nvPr/>
        </p:nvSpPr>
        <p:spPr>
          <a:xfrm>
            <a:off x="4186080" y="185760"/>
            <a:ext cx="4584960" cy="2878200"/>
          </a:xfrm>
          <a:prstGeom prst="wedgeRoundRectCallout">
            <a:avLst>
              <a:gd name="adj1" fmla="val -50828"/>
              <a:gd name="adj2" fmla="val 82736"/>
              <a:gd name="adj3" fmla="val 16667"/>
            </a:avLst>
          </a:prstGeom>
          <a:solidFill>
            <a:srgbClr val="ebf1de"/>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ch bin Nihilist, da ...</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Bild 3" descr="danton.jpg"/>
          <p:cNvPicPr/>
          <p:nvPr/>
        </p:nvPicPr>
        <p:blipFill>
          <a:blip r:embed="rId1"/>
          <a:stretch/>
        </p:blipFill>
        <p:spPr>
          <a:xfrm flipH="1">
            <a:off x="790200" y="1976400"/>
            <a:ext cx="5543640" cy="4245120"/>
          </a:xfrm>
          <a:prstGeom prst="rect">
            <a:avLst/>
          </a:prstGeom>
          <a:ln w="0">
            <a:noFill/>
          </a:ln>
        </p:spPr>
      </p:pic>
      <p:sp>
        <p:nvSpPr>
          <p:cNvPr id="58" name="Abgerundete rechteckige Legende 4"/>
          <p:cNvSpPr/>
          <p:nvPr/>
        </p:nvSpPr>
        <p:spPr>
          <a:xfrm>
            <a:off x="4694400" y="433440"/>
            <a:ext cx="3827160" cy="2556000"/>
          </a:xfrm>
          <a:prstGeom prst="wedgeRoundRectCallout">
            <a:avLst>
              <a:gd name="adj1" fmla="val -48564"/>
              <a:gd name="adj2" fmla="val 68162"/>
              <a:gd name="adj3" fmla="val 16667"/>
            </a:avLst>
          </a:prstGeom>
          <a:solidFill>
            <a:srgbClr val="ebf1de"/>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feld 5"/>
          <p:cNvSpPr/>
          <p:nvPr/>
        </p:nvSpPr>
        <p:spPr>
          <a:xfrm>
            <a:off x="620640" y="596880"/>
            <a:ext cx="8236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Arial Black"/>
                <a:ea typeface="Arial Black"/>
              </a:rPr>
              <a:t>Gemäß seiner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7200" spc="-1" strike="noStrike">
                <a:solidFill>
                  <a:srgbClr val="000000"/>
                </a:solidFill>
                <a:latin typeface="Arial Black"/>
                <a:ea typeface="Arial Black"/>
              </a:rPr>
              <a:t>Natur</a:t>
            </a:r>
            <a:endParaRPr b="0" lang="en-US" sz="7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Arial Black"/>
                <a:ea typeface="Arial Black"/>
              </a:rPr>
              <a:t>handeln bedeutet:</a:t>
            </a:r>
            <a:endParaRPr b="0" lang="en-US" sz="1800" spc="-1" strike="noStrike">
              <a:solidFill>
                <a:srgbClr val="000000"/>
              </a:solidFill>
              <a:latin typeface="Arial"/>
            </a:endParaRPr>
          </a:p>
        </p:txBody>
      </p:sp>
      <p:sp>
        <p:nvSpPr>
          <p:cNvPr id="60" name="Rechteck 7"/>
          <p:cNvSpPr/>
          <p:nvPr/>
        </p:nvSpPr>
        <p:spPr>
          <a:xfrm>
            <a:off x="880920" y="2928960"/>
            <a:ext cx="7569360" cy="3319560"/>
          </a:xfrm>
          <a:prstGeom prst="rect">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Bild 3" descr="danton.jpg"/>
          <p:cNvPicPr/>
          <p:nvPr/>
        </p:nvPicPr>
        <p:blipFill>
          <a:blip r:embed="rId1"/>
          <a:stretch/>
        </p:blipFill>
        <p:spPr>
          <a:xfrm>
            <a:off x="4309920" y="2894040"/>
            <a:ext cx="4684680" cy="3738600"/>
          </a:xfrm>
          <a:prstGeom prst="rect">
            <a:avLst/>
          </a:prstGeom>
          <a:ln w="0">
            <a:noFill/>
          </a:ln>
        </p:spPr>
      </p:pic>
      <p:sp>
        <p:nvSpPr>
          <p:cNvPr id="62" name="Abgerundete rechteckige Legende 4"/>
          <p:cNvSpPr/>
          <p:nvPr/>
        </p:nvSpPr>
        <p:spPr>
          <a:xfrm>
            <a:off x="533520" y="338040"/>
            <a:ext cx="5292720" cy="3303720"/>
          </a:xfrm>
          <a:prstGeom prst="wedgeRoundRectCallout">
            <a:avLst>
              <a:gd name="adj1" fmla="val 47379"/>
              <a:gd name="adj2" fmla="val 67574"/>
              <a:gd name="adj3" fmla="val 16667"/>
            </a:avLst>
          </a:prstGeom>
          <a:solidFill>
            <a:srgbClr val="ebf1de"/>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ch beziehe mich auf die Epikuräer, weil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Bild 1" descr="marion.jpg"/>
          <p:cNvPicPr/>
          <p:nvPr/>
        </p:nvPicPr>
        <p:blipFill>
          <a:blip r:embed="rId1"/>
          <a:stretch/>
        </p:blipFill>
        <p:spPr>
          <a:xfrm>
            <a:off x="2417760" y="0"/>
            <a:ext cx="6726240" cy="6858000"/>
          </a:xfrm>
          <a:prstGeom prst="rect">
            <a:avLst/>
          </a:prstGeom>
          <a:ln w="0">
            <a:noFill/>
          </a:ln>
        </p:spPr>
      </p:pic>
      <p:sp>
        <p:nvSpPr>
          <p:cNvPr id="64" name="Abgerundete rechteckige Legende 4"/>
          <p:cNvSpPr/>
          <p:nvPr/>
        </p:nvSpPr>
        <p:spPr>
          <a:xfrm>
            <a:off x="125280" y="569880"/>
            <a:ext cx="4584960" cy="2556000"/>
          </a:xfrm>
          <a:prstGeom prst="wedgeRoundRectCallout">
            <a:avLst>
              <a:gd name="adj1" fmla="val 70314"/>
              <a:gd name="adj2" fmla="val 27083"/>
              <a:gd name="adj3" fmla="val 16667"/>
            </a:avLst>
          </a:prstGeom>
          <a:solidFill>
            <a:srgbClr val="ebf1de"/>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bgerundete rechteckige Legende 4"/>
          <p:cNvSpPr/>
          <p:nvPr/>
        </p:nvSpPr>
        <p:spPr>
          <a:xfrm>
            <a:off x="4000680" y="417600"/>
            <a:ext cx="4584600" cy="2555640"/>
          </a:xfrm>
          <a:prstGeom prst="wedgeRoundRectCallout">
            <a:avLst>
              <a:gd name="adj1" fmla="val -50828"/>
              <a:gd name="adj2" fmla="val 82736"/>
              <a:gd name="adj3" fmla="val 16667"/>
            </a:avLst>
          </a:prstGeom>
          <a:solidFill>
            <a:srgbClr val="ebf1de"/>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6" name="Bild 1" descr="marion_02.jpg"/>
          <p:cNvPicPr/>
          <p:nvPr/>
        </p:nvPicPr>
        <p:blipFill>
          <a:blip r:embed="rId1"/>
          <a:stretch/>
        </p:blipFill>
        <p:spPr>
          <a:xfrm>
            <a:off x="665280" y="2387520"/>
            <a:ext cx="2997000" cy="390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feld 3"/>
          <p:cNvSpPr/>
          <p:nvPr/>
        </p:nvSpPr>
        <p:spPr>
          <a:xfrm>
            <a:off x="1100160" y="728640"/>
            <a:ext cx="699444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800" spc="-1" strike="noStrike">
                <a:solidFill>
                  <a:srgbClr val="0000ff"/>
                </a:solidFill>
                <a:latin typeface="Impact"/>
                <a:ea typeface="Impact"/>
              </a:rPr>
              <a:t>Wer am meisten genießt, </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800" spc="-1" strike="noStrike">
                <a:solidFill>
                  <a:srgbClr val="0000ff"/>
                </a:solidFill>
                <a:latin typeface="Impact"/>
                <a:ea typeface="Impact"/>
              </a:rPr>
              <a:t>betet am meisten</a:t>
            </a:r>
            <a:r>
              <a:rPr b="0" lang="de-DE"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feld 1"/>
          <p:cNvSpPr/>
          <p:nvPr/>
        </p:nvSpPr>
        <p:spPr>
          <a:xfrm>
            <a:off x="1015920" y="1643040"/>
            <a:ext cx="7383600" cy="43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9200" spc="-1" strike="noStrike">
                <a:solidFill>
                  <a:srgbClr val="000000"/>
                </a:solidFill>
                <a:latin typeface="Impact"/>
                <a:ea typeface="Impact"/>
              </a:rPr>
              <a:t>Gibt es noch </a:t>
            </a:r>
            <a:endParaRPr b="0" lang="en-US" sz="9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9200" spc="-1" strike="noStrike">
                <a:solidFill>
                  <a:srgbClr val="000000"/>
                </a:solidFill>
                <a:latin typeface="Impact"/>
                <a:ea typeface="Impact"/>
              </a:rPr>
              <a:t>Gut und Böse?</a:t>
            </a:r>
            <a:endParaRPr b="0" lang="en-US" sz="9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Bild 2" descr=""/>
          <p:cNvPicPr/>
          <p:nvPr/>
        </p:nvPicPr>
        <p:blipFill>
          <a:blip r:embed="rId1"/>
          <a:stretch/>
        </p:blipFill>
        <p:spPr>
          <a:xfrm flipH="1">
            <a:off x="753840" y="2793960"/>
            <a:ext cx="2987640" cy="3594240"/>
          </a:xfrm>
          <a:prstGeom prst="rect">
            <a:avLst/>
          </a:prstGeom>
          <a:ln w="0">
            <a:noFill/>
          </a:ln>
        </p:spPr>
      </p:pic>
      <p:sp>
        <p:nvSpPr>
          <p:cNvPr id="70" name="Abgerundete rechteckige Legende 1"/>
          <p:cNvSpPr/>
          <p:nvPr/>
        </p:nvSpPr>
        <p:spPr>
          <a:xfrm>
            <a:off x="4000680" y="1066680"/>
            <a:ext cx="4584600" cy="3114720"/>
          </a:xfrm>
          <a:prstGeom prst="wedgeRoundRectCallout">
            <a:avLst>
              <a:gd name="adj1" fmla="val -74833"/>
              <a:gd name="adj2" fmla="val 57185"/>
              <a:gd name="adj3" fmla="val 16667"/>
            </a:avLst>
          </a:prstGeom>
          <a:solidFill>
            <a:srgbClr val="ebf1de"/>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ch ändere meine Handlungsweise nicht, da ...</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13:49:44Z</dcterms:created>
  <dc:creator>Ulrich Mezger</dc:creator>
  <dc:description/>
  <dc:language>en-US</dc:language>
  <cp:lastModifiedBy>Ulrich Mezger</cp:lastModifiedBy>
  <cp:lastPrinted>2013-01-09T15:55:58Z</cp:lastPrinted>
  <dcterms:modified xsi:type="dcterms:W3CDTF">2013-01-09T19:11:10Z</dcterms:modified>
  <cp:revision>14</cp:revision>
  <dc:subject/>
  <dc:title>Folie 1</dc:title>
</cp:coreProperties>
</file>