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26DAE-4ACC-4C8F-940B-C19A1EC0B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C72C1-B5E5-455C-BD03-FA50C3704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FAFCB-ED2A-448D-B1FE-74E21A1D6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9993C-AC8A-4CBB-9161-75B385B34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F5FFA-443B-4B09-B8D3-10279C8B3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DEEE2-5D91-4D4A-982C-FE3AB59E5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DB7F3-6A2D-4CA8-B028-201C61089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A69F2-6F90-41E2-8DC9-A26AEB41A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72956-1528-4AA8-B972-FF0FE8397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592E6-2BE0-41F3-AE92-D62AD5B0B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C9549-1DBA-4F43-8D0B-E9D5A1F1F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B385F-4D9C-49AA-A8BC-5FB9344BF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7CE7-029A-47C5-86AB-C0AD097B91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132000" y="3068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a:hlinkClick r:id="rId2" action="ppaction://hlinksldjump"/>
          </p:cNvPr>
          <p:cNvSpPr/>
          <p:nvPr/>
        </p:nvSpPr>
        <p:spPr>
          <a:xfrm>
            <a:off x="250920" y="1916280"/>
            <a:ext cx="3529080" cy="1008000"/>
          </a:xfrm>
          <a:prstGeom prst="rect">
            <a:avLst/>
          </a:prstGeom>
          <a:solidFill>
            <a:srgbClr val="808080">
              <a:alpha val="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26920" y="177336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ript MT Bold"/>
              </a:rPr>
              <a:t>Lessings</a:t>
            </a:r>
            <a:br>
              <a:rPr sz="3600"/>
            </a:br>
            <a:r>
              <a:rPr b="0" lang="en-US" sz="3600" spc="-1" strike="noStrike">
                <a:solidFill>
                  <a:srgbClr val="ffffff"/>
                </a:solidFill>
                <a:latin typeface="Script MT Bold"/>
              </a:rPr>
              <a:t>Lebensstation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3"/>
                                        </p:tgtEl>
                                        <p:attrNameLst>
                                          <p:attrName>style.visibility</p:attrName>
                                        </p:attrNameLst>
                                      </p:cBhvr>
                                      <p:to>
                                        <p:strVal val="visible"/>
                                      </p:to>
                                    </p:set>
                                    <p:animEffect filter="blinds(vertical)"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gtEl>
                                        <p:attrNameLst>
                                          <p:attrName>style.visibility</p:attrName>
                                        </p:attrNameLst>
                                      </p:cBhvr>
                                      <p:to>
                                        <p:strVal val="visible"/>
                                      </p:to>
                                    </p:set>
                                    <p:animEffect filter="blinds(horizontal)" transition="in">
                                      <p:cBhvr additive="repl">
                                        <p:cTn id="1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132000" y="3068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284720" y="0"/>
            <a:ext cx="3959280" cy="376200"/>
          </a:xfrm>
          <a:prstGeom prst="rect">
            <a:avLst/>
          </a:prstGeom>
          <a:solidFill>
            <a:srgbClr val="c0c0c0">
              <a:alpha val="63000"/>
            </a:srgbClr>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140360" y="5950080"/>
            <a:ext cx="358560" cy="287280"/>
          </a:xfrm>
          <a:prstGeom prst="ellipse">
            <a:avLst/>
          </a:prstGeom>
          <a:solidFill>
            <a:srgbClr val="bbe0e3">
              <a:alpha val="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971640" y="3789360"/>
            <a:ext cx="36036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335480" y="1576440"/>
            <a:ext cx="2973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9" name=""/>
          <p:cNvSpPr/>
          <p:nvPr/>
        </p:nvSpPr>
        <p:spPr>
          <a:xfrm>
            <a:off x="1908000" y="189000"/>
            <a:ext cx="6120000" cy="6664680"/>
          </a:xfrm>
          <a:prstGeom prst="rect">
            <a:avLst/>
          </a:prstGeom>
          <a:solidFill>
            <a:srgbClr val="808080">
              <a:alpha val="32000"/>
            </a:srgbClr>
          </a:solidFill>
          <a:ln w="1260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urch Vermittlung Johann Arnold Eberts bekam er schließlich eine Stelle als herzoglicher Bibliothekar in Wolfenbüttel angeboten, die er von Mai 1770 bis zu seinem Tode innehatte. Dieses Amt bot ihm dann wegen der reichhaltigen Schätze der Bibliothek Anlaß für zahlreiche Veröffentlichungen. Bereits 1770 fand er ein Manuskript des Berengar von Tours, das er herausgab. Etwa ein Jahr später entstand sein Trauerspiel »Emilia Galotti«, das zum Geburtstag der Herzogin am 13.3. 1772 in Braunschweig erstmals aufgeführt wurde. Trotz großer Freiheiten fühlte sich L. in Wolfenbüttel einsam und isoliert und versuchte, anderswo unterzukommen, Versuche, die alle ergebnislos verliefen. 1775 begleitete er den braunschweigischen Prinzen Karl Wilhelm Ferdinand auf einer Italienreise. Im Jahre 1776 schließlich heiratete er Eva König, eine Hamburger Kaufmannswitwe, mit der er seit 1771 verlobt war. Sie starb nicht viel mehr als ein Jahr später unmittelbar nach der Geburt eines Sohnes, der ebenfalls nur kurz lebte. In den Jahren 1774 und 1777 veröffentlichte L. Fragmente des im Jahre 1768 verstorbenen Hamburger Orientalisten Hermann Samuel Reimarus. Mit diesen Texten forderte er den Widerstand der traditionellen lutherischen Theologen heraus. Sein Hauptgegner wurde schließlich der Hamburger Pastor Johann Melchior Goeze, dem er in der Brillanz seiner Formulierungen eindeutig überlegen war. Gleichsam ein Nachhall dieser Auseinandersetzung war sein berühmtestes Werk, »Nathan der Weise«, das 1779 im Druck erschien und 1783 in Berlin erstmals aufgeführt wurde, zwei Jahre nach seinem Tode.</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dt" idx="1"/>
          </p:nvPr>
        </p:nvSpPr>
        <p:spPr/>
        <p:txBody>
          <a:bodyPr/>
          <a:p>
            <a:r>
              <a:rPr lang="en-US"/>
              <a:t>Kamenz</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132000" y="3068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348000" y="2924280"/>
            <a:ext cx="4537080" cy="2014200"/>
          </a:xfrm>
          <a:prstGeom prst="rect">
            <a:avLst/>
          </a:prstGeom>
          <a:solidFill>
            <a:srgbClr val="c0c0c0">
              <a:alpha val="49000"/>
            </a:srgbClr>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ls drittes Kind von Justine Salome und Johann Gottfried Lessing kam Gotthold Ephraim am 22. Januar 1729 in Kamenz zur Welt. Frühe prägende Eindrücke erhielt er durch den strengen lutherischen Geist des Elternhauses und die umfangreiche Bibliothek seines Vater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46" name="">
            <a:hlinkClick r:id="rId2" action="ppaction://hlinksldjump"/>
          </p:cNvPr>
          <p:cNvSpPr/>
          <p:nvPr/>
        </p:nvSpPr>
        <p:spPr>
          <a:xfrm rot="20588400">
            <a:off x="4642920" y="5876640"/>
            <a:ext cx="505080" cy="216000"/>
          </a:xfrm>
          <a:prstGeom prst="leftArrow">
            <a:avLst>
              <a:gd name="adj1" fmla="val 50000"/>
              <a:gd name="adj2" fmla="val 58458"/>
            </a:avLst>
          </a:prstGeom>
          <a:solidFill>
            <a:srgbClr val="80808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rId3" action="ppaction://hlinksldjump"/>
          </p:cNvPr>
          <p:cNvSpPr/>
          <p:nvPr/>
        </p:nvSpPr>
        <p:spPr>
          <a:xfrm>
            <a:off x="4140360" y="5950080"/>
            <a:ext cx="358560" cy="287280"/>
          </a:xfrm>
          <a:prstGeom prst="ellipse">
            <a:avLst/>
          </a:prstGeom>
          <a:solidFill>
            <a:srgbClr val="bbe0e3">
              <a:alpha val="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219640" y="5734080"/>
            <a:ext cx="36036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r>
              <a:rPr lang="en-US"/>
              <a:t>Kamenz</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132000" y="3068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3708360" y="1125360"/>
            <a:ext cx="4537080" cy="4220280"/>
          </a:xfrm>
          <a:prstGeom prst="rect">
            <a:avLst/>
          </a:prstGeom>
          <a:solidFill>
            <a:srgbClr val="c0c0c0">
              <a:alpha val="49000"/>
            </a:srgbClr>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 Jahre 1741 trat er in die kurfürstliche Landesschule St. Afra in Meißen ein, die er 1746 wegen seiner glänzenden Leistungen vorzeitig verlassen durfte. In die Schulzeit fallen erste dichterische Versuche und der Entwurf zu einem Lustspiel »Der junge Gelehr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ses Stück wurde nach einer gründlichen Umarbeitung von der Neuberschen Truppe 1748 in Leipzig auch aufgefüh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ch der Schulzeit brach er radikal mit dem Geist seines patriarchalischen und streitbaren Elternhauses. </a:t>
            </a:r>
            <a:endParaRPr b="0" lang="en-US" sz="1800" spc="-1" strike="noStrike">
              <a:solidFill>
                <a:srgbClr val="000000"/>
              </a:solidFill>
              <a:latin typeface="Arial"/>
            </a:endParaRPr>
          </a:p>
        </p:txBody>
      </p:sp>
      <p:sp>
        <p:nvSpPr>
          <p:cNvPr id="51" name=""/>
          <p:cNvSpPr/>
          <p:nvPr/>
        </p:nvSpPr>
        <p:spPr>
          <a:xfrm rot="1545000">
            <a:off x="3419640" y="5661000"/>
            <a:ext cx="574560" cy="287280"/>
          </a:xfrm>
          <a:prstGeom prst="leftArrow">
            <a:avLst>
              <a:gd name="adj1" fmla="val 50000"/>
              <a:gd name="adj2" fmla="val 50000"/>
            </a:avLst>
          </a:prstGeom>
          <a:solidFill>
            <a:srgbClr val="80808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140360" y="5950080"/>
            <a:ext cx="358560" cy="287280"/>
          </a:xfrm>
          <a:prstGeom prst="ellipse">
            <a:avLst/>
          </a:prstGeom>
          <a:solidFill>
            <a:srgbClr val="bbe0e3">
              <a:alpha val="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067280" y="5950080"/>
            <a:ext cx="360360" cy="358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r>
              <a:rPr lang="en-US"/>
              <a:t>Kamenz</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3132000" y="3068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284720" y="0"/>
            <a:ext cx="3959280" cy="6403320"/>
          </a:xfrm>
          <a:prstGeom prst="rect">
            <a:avLst/>
          </a:prstGeom>
          <a:solidFill>
            <a:srgbClr val="c0c0c0">
              <a:alpha val="63000"/>
            </a:srgbClr>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m Wunsch des Vaters folgend, immatrikulierte sich L. im September 1746 in Leipzig für das Studium der Theologie. Sein Interesse galt jedoch mehr den philosophischen Fächern. Der Kontakt zu einem weitläufigen Verwandten, Christlob Mylius, führte ihn in literarisch ambitionierte Kreise. Übersetzungsarbeiten für die Neubersche Theatergruppe brachten erste Kontakte zum Theater. L.s Eltern waren von seinem Engagement für das Theater nicht begeistert, immerhin aber waren sie bereit, für seine aus der Theaterleidenschaft entstandenen Schulden aufzukommen. Da er für die Theologie keine echte Neigung empfand, begann er nun mit Erlaubnis des Vaters Medizin zu studieren. Wegen einer Bürgschaft für Schauspieler der Neuber mußte er bald Leipzig verlassen. </a:t>
            </a:r>
            <a:endParaRPr b="0" lang="en-US" sz="1800" spc="-1" strike="noStrike">
              <a:solidFill>
                <a:srgbClr val="000000"/>
              </a:solidFill>
              <a:latin typeface="Arial"/>
            </a:endParaRPr>
          </a:p>
        </p:txBody>
      </p:sp>
      <p:sp>
        <p:nvSpPr>
          <p:cNvPr id="56" name=""/>
          <p:cNvSpPr/>
          <p:nvPr/>
        </p:nvSpPr>
        <p:spPr>
          <a:xfrm rot="6367800">
            <a:off x="3106080" y="4979520"/>
            <a:ext cx="647640" cy="142920"/>
          </a:xfrm>
          <a:prstGeom prst="leftArrow">
            <a:avLst>
              <a:gd name="adj1" fmla="val 50000"/>
              <a:gd name="adj2" fmla="val 113287"/>
            </a:avLst>
          </a:prstGeom>
          <a:solidFill>
            <a:srgbClr val="808080">
              <a:alpha val="42000"/>
            </a:srgbClr>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7" name=""/>
          <p:cNvSpPr/>
          <p:nvPr/>
        </p:nvSpPr>
        <p:spPr>
          <a:xfrm>
            <a:off x="4140360" y="5950080"/>
            <a:ext cx="358560" cy="287280"/>
          </a:xfrm>
          <a:prstGeom prst="ellipse">
            <a:avLst/>
          </a:prstGeom>
          <a:solidFill>
            <a:srgbClr val="bbe0e3">
              <a:alpha val="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059280" y="5445000"/>
            <a:ext cx="36036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r>
              <a:rPr lang="en-US"/>
              <a:t>Kamenz</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132000" y="3068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284720" y="0"/>
            <a:ext cx="3959280" cy="376200"/>
          </a:xfrm>
          <a:prstGeom prst="rect">
            <a:avLst/>
          </a:prstGeom>
          <a:solidFill>
            <a:srgbClr val="c0c0c0">
              <a:alpha val="63000"/>
            </a:srgbClr>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rot="7303200">
            <a:off x="3383640" y="3825000"/>
            <a:ext cx="1079640" cy="287280"/>
          </a:xfrm>
          <a:prstGeom prst="leftArrow">
            <a:avLst>
              <a:gd name="adj1" fmla="val 50000"/>
              <a:gd name="adj2" fmla="val 93954"/>
            </a:avLst>
          </a:prstGeom>
          <a:solidFill>
            <a:srgbClr val="80808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140360" y="5950080"/>
            <a:ext cx="358560" cy="287280"/>
          </a:xfrm>
          <a:prstGeom prst="ellipse">
            <a:avLst/>
          </a:prstGeom>
          <a:solidFill>
            <a:srgbClr val="bbe0e3">
              <a:alpha val="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276720" y="4437000"/>
            <a:ext cx="36036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335480" y="1576440"/>
            <a:ext cx="2973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5" name=""/>
          <p:cNvSpPr/>
          <p:nvPr/>
        </p:nvSpPr>
        <p:spPr>
          <a:xfrm>
            <a:off x="4572000" y="2492280"/>
            <a:ext cx="2952720" cy="1465560"/>
          </a:xfrm>
          <a:prstGeom prst="rect">
            <a:avLst/>
          </a:prstGeom>
          <a:solidFill>
            <a:srgbClr val="808080">
              <a:alpha val="37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 floh nach Wittenberg, wo er zunächst sein Medizinstudium fortsetzte, bald darauf aber endgültig abbrac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dt" idx="1"/>
          </p:nvPr>
        </p:nvSpPr>
        <p:spPr/>
        <p:txBody>
          <a:bodyPr/>
          <a:p>
            <a:r>
              <a:rPr lang="en-US"/>
              <a:t>Kamenz</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132000" y="3068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284720" y="0"/>
            <a:ext cx="3959280" cy="376200"/>
          </a:xfrm>
          <a:prstGeom prst="rect">
            <a:avLst/>
          </a:prstGeom>
          <a:solidFill>
            <a:srgbClr val="c0c0c0">
              <a:alpha val="63000"/>
            </a:srgbClr>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6980400">
            <a:off x="2807280" y="4329720"/>
            <a:ext cx="2089080" cy="287280"/>
          </a:xfrm>
          <a:prstGeom prst="leftArrow">
            <a:avLst>
              <a:gd name="adj1" fmla="val 50000"/>
              <a:gd name="adj2" fmla="val 181798"/>
            </a:avLst>
          </a:prstGeom>
          <a:solidFill>
            <a:srgbClr val="80808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140360" y="5950080"/>
            <a:ext cx="358560" cy="287280"/>
          </a:xfrm>
          <a:prstGeom prst="ellipse">
            <a:avLst/>
          </a:prstGeom>
          <a:solidFill>
            <a:srgbClr val="bbe0e3">
              <a:alpha val="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059280" y="5373720"/>
            <a:ext cx="36036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335480" y="1576440"/>
            <a:ext cx="2973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2" name=""/>
          <p:cNvSpPr/>
          <p:nvPr/>
        </p:nvSpPr>
        <p:spPr>
          <a:xfrm>
            <a:off x="0" y="1916280"/>
            <a:ext cx="3600360" cy="2562840"/>
          </a:xfrm>
          <a:prstGeom prst="rect">
            <a:avLst/>
          </a:prstGeom>
          <a:solidFill>
            <a:srgbClr val="808080">
              <a:alpha val="32000"/>
            </a:srgbClr>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55 ging L. wieder nach Leipzig. Dort lernte er die Familie Winkler kennen, deren Sohn Gottfried er auf einer Bildungsreise begleiten sollte. Wegen Ausbruchs des Siebenjährigen Krieges fand diese Reise, die 1756 angetreten wurde, schon nach wenigen Wochen in Amsterdam ihr Ende. </a:t>
            </a:r>
            <a:endParaRPr b="0" lang="en-US" sz="1800" spc="-1" strike="noStrike">
              <a:solidFill>
                <a:srgbClr val="000000"/>
              </a:solidFill>
              <a:latin typeface="Arial"/>
            </a:endParaRPr>
          </a:p>
        </p:txBody>
      </p:sp>
      <p:sp>
        <p:nvSpPr>
          <p:cNvPr id="2" name="PlaceHolder 1"/>
          <p:cNvSpPr>
            <a:spLocks noGrp="1"/>
          </p:cNvSpPr>
          <p:nvPr>
            <p:ph type="dt" idx="1"/>
          </p:nvPr>
        </p:nvSpPr>
        <p:spPr/>
        <p:txBody>
          <a:bodyPr/>
          <a:p>
            <a:r>
              <a:rPr lang="en-US"/>
              <a:t>Kamenz</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132000" y="3068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284720" y="0"/>
            <a:ext cx="3959280" cy="376200"/>
          </a:xfrm>
          <a:prstGeom prst="rect">
            <a:avLst/>
          </a:prstGeom>
          <a:solidFill>
            <a:srgbClr val="c0c0c0">
              <a:alpha val="63000"/>
            </a:srgbClr>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rot="12784200">
            <a:off x="4211280" y="4436280"/>
            <a:ext cx="4319640" cy="576360"/>
          </a:xfrm>
          <a:prstGeom prst="leftArrow">
            <a:avLst>
              <a:gd name="adj1" fmla="val 50000"/>
              <a:gd name="adj2" fmla="val 187367"/>
            </a:avLst>
          </a:prstGeom>
          <a:solidFill>
            <a:srgbClr val="80808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140360" y="5950080"/>
            <a:ext cx="358560" cy="287280"/>
          </a:xfrm>
          <a:prstGeom prst="ellipse">
            <a:avLst/>
          </a:prstGeom>
          <a:solidFill>
            <a:srgbClr val="bbe0e3">
              <a:alpha val="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140360" y="3284640"/>
            <a:ext cx="360360" cy="358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335480" y="1576440"/>
            <a:ext cx="2973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9" name=""/>
          <p:cNvSpPr/>
          <p:nvPr/>
        </p:nvSpPr>
        <p:spPr>
          <a:xfrm>
            <a:off x="2268360" y="1557360"/>
            <a:ext cx="5616720" cy="1554120"/>
          </a:xfrm>
          <a:prstGeom prst="rect">
            <a:avLst/>
          </a:prstGeom>
          <a:solidFill>
            <a:srgbClr val="808080">
              <a:alpha val="32000"/>
            </a:srgbClr>
          </a:solidFill>
          <a:ln w="1260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un zog es L. wieder nach Berlin, wo er inzwischen einen großen Freundeskreis besaß. Seine Freundschaften zu Moses Mendelssohn und Friedrich Nicolai vertieften sich derart, daß er zusammen mit ihnen ab August 1759 die Wochenschrift »Briefe, die neueste Litteratur betreffend« herausgab. </a:t>
            </a:r>
            <a:endParaRPr b="0" lang="en-US" sz="1600" spc="-1" strike="noStrike">
              <a:solidFill>
                <a:srgbClr val="000000"/>
              </a:solidFill>
              <a:latin typeface="Arial"/>
            </a:endParaRPr>
          </a:p>
        </p:txBody>
      </p:sp>
      <p:sp>
        <p:nvSpPr>
          <p:cNvPr id="2" name="PlaceHolder 1"/>
          <p:cNvSpPr>
            <a:spLocks noGrp="1"/>
          </p:cNvSpPr>
          <p:nvPr>
            <p:ph type="dt" idx="1"/>
          </p:nvPr>
        </p:nvSpPr>
        <p:spPr/>
        <p:txBody>
          <a:bodyPr/>
          <a:p>
            <a:r>
              <a:rPr lang="en-US"/>
              <a:t>Kamenz</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132000" y="3068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284720" y="0"/>
            <a:ext cx="3959280" cy="376200"/>
          </a:xfrm>
          <a:prstGeom prst="rect">
            <a:avLst/>
          </a:prstGeom>
          <a:solidFill>
            <a:srgbClr val="c0c0c0">
              <a:alpha val="63000"/>
            </a:srgbClr>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140360" y="5950080"/>
            <a:ext cx="358560" cy="287280"/>
          </a:xfrm>
          <a:prstGeom prst="ellipse">
            <a:avLst/>
          </a:prstGeom>
          <a:solidFill>
            <a:srgbClr val="bbe0e3">
              <a:alpha val="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101080" y="5734080"/>
            <a:ext cx="36036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335480" y="1576440"/>
            <a:ext cx="2973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5" name=""/>
          <p:cNvSpPr/>
          <p:nvPr/>
        </p:nvSpPr>
        <p:spPr>
          <a:xfrm>
            <a:off x="539640" y="3573360"/>
            <a:ext cx="5616720" cy="2562840"/>
          </a:xfrm>
          <a:prstGeom prst="rect">
            <a:avLst/>
          </a:prstGeom>
          <a:solidFill>
            <a:srgbClr val="808080">
              <a:alpha val="32000"/>
            </a:srgbClr>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Von 1760 bis 1765 war er Sekretär des preußischen Generals Bogislaw Friedrich von Tauentzien, in Breslau, eine Stelle, die ausgesprochen gut dotiert war, im übrigen aber kaum seinen literarischen Neigungen entsprach. Nach schwerer Erkranung Ausscheiden aus dem Amt. In dieser Zeit entstanden zwei größere Werke, der 1766 erschienene »Laokoon« und die 1767 erstmals veröffentlichte »Minna von Barnhelm«.</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rot="1867200">
            <a:off x="449280" y="3530520"/>
            <a:ext cx="8177040" cy="287280"/>
          </a:xfrm>
          <a:prstGeom prst="leftArrow">
            <a:avLst>
              <a:gd name="adj1" fmla="val 50000"/>
              <a:gd name="adj2" fmla="val 711591"/>
            </a:avLst>
          </a:prstGeom>
          <a:solidFill>
            <a:srgbClr val="80808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r>
              <a:rPr lang="en-US"/>
              <a:t>Kamenz</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132000" y="3068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284720" y="0"/>
            <a:ext cx="3959280" cy="376200"/>
          </a:xfrm>
          <a:prstGeom prst="rect">
            <a:avLst/>
          </a:prstGeom>
          <a:solidFill>
            <a:srgbClr val="c0c0c0">
              <a:alpha val="63000"/>
            </a:srgbClr>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140360" y="5950080"/>
            <a:ext cx="358560" cy="287280"/>
          </a:xfrm>
          <a:prstGeom prst="ellipse">
            <a:avLst/>
          </a:prstGeom>
          <a:solidFill>
            <a:srgbClr val="bbe0e3">
              <a:alpha val="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84360" y="1268280"/>
            <a:ext cx="36036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335480" y="1576440"/>
            <a:ext cx="2973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2124000" y="1628640"/>
            <a:ext cx="5616720" cy="2705760"/>
          </a:xfrm>
          <a:prstGeom prst="rect">
            <a:avLst/>
          </a:prstGeom>
          <a:solidFill>
            <a:srgbClr val="808080">
              <a:alpha val="32000"/>
            </a:srgbClr>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Anschluß an der Breslauer Aufenthalt fand L. eine Anstellung am 1766 gegründeten Hamburger »Nationaltheather« als Haus-Dramatiker. In dieser Position versuchte er, gegen den an den Hoftheatern vorherrschenden Einfluß der französischen Theatertradition genuin deutsche Stücke durchzusetzen. Bald jedoch mußte er einsehen, daß für seine Bemühungen die Zeit noch nicht reif war.</a:t>
            </a:r>
            <a:r>
              <a:rPr b="0" lang="de-DE"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rot="15804600">
            <a:off x="42480" y="2635200"/>
            <a:ext cx="2160720" cy="287280"/>
          </a:xfrm>
          <a:prstGeom prst="leftArrow">
            <a:avLst>
              <a:gd name="adj1" fmla="val 50000"/>
              <a:gd name="adj2" fmla="val 188033"/>
            </a:avLst>
          </a:prstGeom>
          <a:solidFill>
            <a:srgbClr val="80808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r>
              <a:rPr lang="en-US"/>
              <a:t>Kamenz</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09:13:13Z</dcterms:created>
  <dc:creator>.</dc:creator>
  <dc:description/>
  <dc:language>en-US</dc:language>
  <cp:lastModifiedBy>Ulrich Mezger</cp:lastModifiedBy>
  <dcterms:modified xsi:type="dcterms:W3CDTF">2005-05-12T08:54:34Z</dcterms:modified>
  <cp:revision>4</cp:revision>
  <dc:subject/>
  <dc:title>Folie 1</dc:title>
</cp:coreProperties>
</file>