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F291-A7D2-413E-8C75-5F58F121A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5885-098C-4381-90F4-4B097224B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0EAA-5816-4DC1-A268-56C89A237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A887-0613-48E8-BA95-313ECF01F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49D1AB-4C64-4451-A2DC-21A613E67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AA63F5-108F-41E7-ABE3-1A8960AE7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A181B2-3AEA-4074-A683-1E6604FC7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14AA7B-B656-458A-957A-10DFF5482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8A9C25-3DE4-44AB-8A3A-94BE06637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8C35CF-0173-46B6-A2FD-5EF17FC4E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68FFF7-CFED-4C75-9173-DCBC8FED3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0956-D767-4F99-B3B9-86657B0B3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38AD72-F706-4EBD-AEE8-6E2AA7BAB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87B6CD-67D3-4305-B509-741BCD107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90BE86-2B82-40DB-A6B9-2B5E2D6BA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64D63C-44E7-4C2C-BA14-C4BC5D1E8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F7849E-4101-48F0-9210-3CBBA4904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B39B1-DB4A-43D9-8F18-87281E7F8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346C0-BEB1-4169-800C-B56276188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CA805-BB35-4BD9-9935-2093B2FD2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22550-A335-4E21-A00B-6C24430EA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06394-8D77-4A61-9253-3A8822196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4A95-ACC2-4562-8347-2CC6C642D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45697-2938-4B1C-AA8B-BABE2AB7B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0781B-459B-4181-8384-9B232B9B9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0E374-F2C5-4297-8BC9-30222FB41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DA421-CC0C-41FF-9369-3114A415F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7A60B-AB09-47CD-AABA-5CE5AFE04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C07E9-61F5-4841-B541-E6138BD80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9A080-2576-4EAD-92D4-6545AC8AB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4094DD-0F82-4590-95BE-A4CC937E6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2620DD-02D3-4C2D-824F-58E1E1F28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949BFF-EA01-4779-97A7-A2ACF1540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ACA8-25A8-405C-8862-A55A24229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AD6A9C-863F-4A09-A73C-CAB998A78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ADDC96-1F32-4C10-B545-155226D36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55F256-C649-4A2A-B6B7-48E59EB1F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61EC11-4DD8-462B-BB50-12735699B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9064A0-7BFE-4062-A781-75CAF633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332AE6-32DD-496A-9297-D44FB3F40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E92F0F-D9F2-4081-8949-D9B7D2229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24BBE8-A5A3-4662-9AD5-1D95D0286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3B84C1-7691-498E-AC93-E468FA477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E76C33-7D9C-45EF-8EA2-DEB5CEA92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4198-0FDF-4659-9671-46D2A2371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855BDA-3323-45EC-B97A-3868CF86B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B3078D-F59E-4C69-94CB-3D12ED782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42AB3F-FB48-4D2F-85E8-B184F25C2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59F77B-F4A4-43CE-B3BF-9BA9F1F7F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2362C7-E4F2-4369-8454-F38E3D916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30B0D7-8A1B-4425-B62A-A058E151F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5C9CAC-6CBB-40B6-B52A-794F8A4C8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901F26-6F08-4C15-A862-BEA020736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43F16A-0D11-4B79-9327-FFCA783B3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A3880F-4514-4E47-8952-6A01922EB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C4EF-F0B9-4067-B700-C9DB3DE28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A7ECFA-A357-46CC-83BA-6354EF9BA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8D1E12-846E-4A68-8AE3-09622D1C8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0B3CE1-46C0-4DE7-B5EA-D496766F2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B2BBC9-F46B-4285-98B8-E58DE9B39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81C167-93C7-44A0-B909-0742A9150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B7B440-51C0-44FF-B9C5-80AB2D02F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E08829-F8DD-4AB3-BEED-EBE4293ED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331F86-5E42-4F10-9B04-49E8D3550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42696B-A1F0-40C4-9C96-4E8C2EDD3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88AF8C-89C8-423E-B2AD-A2F7BE372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2E1F-48C1-4748-ACFC-D39DF7695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70A557-8CE6-431F-BAFD-43C188CF1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06A7AA-7281-4759-86C7-A5B587783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F496B8-7871-4ED6-9667-42DC17602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94AE-A549-4D0E-B945-F9F9C1F82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BC9C-B51E-4196-949C-BE4AD581B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3C625-A7A1-4D51-B105-9FA62A6C65F7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Gerade Verbindung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Gerade Verbindung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Ellipse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D87B7-ACFD-4E8D-A07D-BBB0FF5A8ADF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Gerade Verbindung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81549-90EC-4CAA-8E75-C99D25216459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Gerade Verbindung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Gerade Verbindung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68D22-2C22-41DC-B2F1-F7622A0A1D94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17F7E-AF5C-42A0-B40C-93F38BFBC75D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9F9D6-9888-4B2C-B76A-B3F7B0E5188B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feld 3"/>
          <p:cNvSpPr/>
          <p:nvPr/>
        </p:nvSpPr>
        <p:spPr>
          <a:xfrm>
            <a:off x="1187280" y="2349360"/>
            <a:ext cx="705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Gerhart Hauptmann (1862 – 1946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„</a:t>
            </a: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Vor Sonnenaufgang. Soziales Drama“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advTm="13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hteck 3"/>
          <p:cNvSpPr/>
          <p:nvPr/>
        </p:nvSpPr>
        <p:spPr>
          <a:xfrm>
            <a:off x="6156360" y="3573360"/>
            <a:ext cx="266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Arbeiterschaf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4" name="Rechteck 4"/>
          <p:cNvSpPr/>
          <p:nvPr/>
        </p:nvSpPr>
        <p:spPr>
          <a:xfrm>
            <a:off x="5724360" y="40464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nstantia"/>
              </a:rPr>
              <a:t>Abstammungslehr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5" name="Rechteck 5"/>
          <p:cNvSpPr/>
          <p:nvPr/>
        </p:nvSpPr>
        <p:spPr>
          <a:xfrm>
            <a:off x="755640" y="620640"/>
            <a:ext cx="136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nstantia"/>
              </a:rPr>
              <a:t>Analys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6" name="Rechteck 6"/>
          <p:cNvSpPr/>
          <p:nvPr/>
        </p:nvSpPr>
        <p:spPr>
          <a:xfrm>
            <a:off x="250920" y="479736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Constantia"/>
              </a:rPr>
              <a:t>vierter Stand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7" name="Rechteck 7"/>
          <p:cNvSpPr/>
          <p:nvPr/>
        </p:nvSpPr>
        <p:spPr>
          <a:xfrm>
            <a:off x="121680" y="6021360"/>
            <a:ext cx="231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Constantia"/>
              </a:rPr>
              <a:t>Sozialismus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8" name="Rechteck 8"/>
          <p:cNvSpPr/>
          <p:nvPr/>
        </p:nvSpPr>
        <p:spPr>
          <a:xfrm>
            <a:off x="395280" y="189000"/>
            <a:ext cx="324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Sozialistengesetz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9" name="Rechteck 9"/>
          <p:cNvSpPr/>
          <p:nvPr/>
        </p:nvSpPr>
        <p:spPr>
          <a:xfrm>
            <a:off x="250920" y="3933720"/>
            <a:ext cx="335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Industrialisierung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0" name="Rechteck 10"/>
          <p:cNvSpPr/>
          <p:nvPr/>
        </p:nvSpPr>
        <p:spPr>
          <a:xfrm>
            <a:off x="6084720" y="1628640"/>
            <a:ext cx="275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Constantia"/>
              </a:rPr>
              <a:t>Pauperismus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1" name="Rechteck 11"/>
          <p:cNvSpPr/>
          <p:nvPr/>
        </p:nvSpPr>
        <p:spPr>
          <a:xfrm>
            <a:off x="6752520" y="2205000"/>
            <a:ext cx="188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Bismarck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2" name="Rechteck 12"/>
          <p:cNvSpPr/>
          <p:nvPr/>
        </p:nvSpPr>
        <p:spPr>
          <a:xfrm>
            <a:off x="107280" y="2205000"/>
            <a:ext cx="227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Kaiserreich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3" name="Rechteck 13"/>
          <p:cNvSpPr/>
          <p:nvPr/>
        </p:nvSpPr>
        <p:spPr>
          <a:xfrm>
            <a:off x="2340000" y="1268280"/>
            <a:ext cx="41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Naturalismus </a:t>
            </a: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Experiment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4" name="Rechteck 14"/>
          <p:cNvSpPr/>
          <p:nvPr/>
        </p:nvSpPr>
        <p:spPr>
          <a:xfrm>
            <a:off x="4098600" y="189000"/>
            <a:ext cx="174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Arno Holz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5" name="Rechteck 15"/>
          <p:cNvSpPr/>
          <p:nvPr/>
        </p:nvSpPr>
        <p:spPr>
          <a:xfrm>
            <a:off x="4067280" y="292428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Johannes Schlaf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6" name="Rechteck 16"/>
          <p:cNvSpPr/>
          <p:nvPr/>
        </p:nvSpPr>
        <p:spPr>
          <a:xfrm>
            <a:off x="4834080" y="836640"/>
            <a:ext cx="113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Berlin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7" name="Rechteck 17"/>
          <p:cNvSpPr/>
          <p:nvPr/>
        </p:nvSpPr>
        <p:spPr>
          <a:xfrm>
            <a:off x="1908000" y="549360"/>
            <a:ext cx="295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literarischer Verein "Durch"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8" name="Rechteck 18"/>
          <p:cNvSpPr/>
          <p:nvPr/>
        </p:nvSpPr>
        <p:spPr>
          <a:xfrm>
            <a:off x="3013560" y="6165720"/>
            <a:ext cx="229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Milieutheori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9" name="Rechteck 19"/>
          <p:cNvSpPr/>
          <p:nvPr/>
        </p:nvSpPr>
        <p:spPr>
          <a:xfrm>
            <a:off x="971640" y="522936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Freie Bühne Berlin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0" name="Rechteck 20"/>
          <p:cNvSpPr/>
          <p:nvPr/>
        </p:nvSpPr>
        <p:spPr>
          <a:xfrm>
            <a:off x="1573920" y="436572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Henrik Ibsen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1" name="Rechteck 21"/>
          <p:cNvSpPr/>
          <p:nvPr/>
        </p:nvSpPr>
        <p:spPr>
          <a:xfrm>
            <a:off x="5796000" y="558972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Nora, Gespenster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2" name="Rechteck 22"/>
          <p:cNvSpPr/>
          <p:nvPr/>
        </p:nvSpPr>
        <p:spPr>
          <a:xfrm>
            <a:off x="4089240" y="501336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Emile Zola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3" name="Rechteck 23"/>
          <p:cNvSpPr/>
          <p:nvPr/>
        </p:nvSpPr>
        <p:spPr>
          <a:xfrm>
            <a:off x="1403280" y="328464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Willensfreiheit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4" name="Rechteck 24"/>
          <p:cNvSpPr/>
          <p:nvPr/>
        </p:nvSpPr>
        <p:spPr>
          <a:xfrm>
            <a:off x="539640" y="249228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Determinismus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5" name="Rechteck 25"/>
          <p:cNvSpPr/>
          <p:nvPr/>
        </p:nvSpPr>
        <p:spPr>
          <a:xfrm>
            <a:off x="3742560" y="3789360"/>
            <a:ext cx="14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Empiri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6" name="Rechteck 26"/>
          <p:cNvSpPr/>
          <p:nvPr/>
        </p:nvSpPr>
        <p:spPr>
          <a:xfrm>
            <a:off x="2771640" y="2282760"/>
            <a:ext cx="31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Naturwissenschaft/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Religion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7" name="Rechteck 27"/>
          <p:cNvSpPr/>
          <p:nvPr/>
        </p:nvSpPr>
        <p:spPr>
          <a:xfrm>
            <a:off x="6132600" y="6280200"/>
            <a:ext cx="31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Charles Darwin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8" name="Rechteck 28"/>
          <p:cNvSpPr/>
          <p:nvPr/>
        </p:nvSpPr>
        <p:spPr>
          <a:xfrm>
            <a:off x="3931920" y="4365720"/>
            <a:ext cx="23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Ernst Haeckel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9" name="Rechteck 29"/>
          <p:cNvSpPr/>
          <p:nvPr/>
        </p:nvSpPr>
        <p:spPr>
          <a:xfrm>
            <a:off x="2411280" y="5661000"/>
            <a:ext cx="30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nstantia"/>
              </a:rPr>
              <a:t>Wilhelm Bölsch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0" name="Rechteck 30"/>
          <p:cNvSpPr/>
          <p:nvPr/>
        </p:nvSpPr>
        <p:spPr>
          <a:xfrm>
            <a:off x="6386040" y="4941720"/>
            <a:ext cx="219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Alfred Ploetz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1" name="Rechteck 31"/>
          <p:cNvSpPr/>
          <p:nvPr/>
        </p:nvSpPr>
        <p:spPr>
          <a:xfrm>
            <a:off x="6084720" y="4202280"/>
            <a:ext cx="33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Abstinenzbewegung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2" name="Rechteck 32"/>
          <p:cNvSpPr/>
          <p:nvPr/>
        </p:nvSpPr>
        <p:spPr>
          <a:xfrm>
            <a:off x="1176120" y="3595680"/>
            <a:ext cx="191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Marxismus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3" name="Rechteck 33"/>
          <p:cNvSpPr/>
          <p:nvPr/>
        </p:nvSpPr>
        <p:spPr>
          <a:xfrm>
            <a:off x="611280" y="162864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nstantia"/>
              </a:rPr>
              <a:t>August Forel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4" name="Rechteck 34"/>
          <p:cNvSpPr/>
          <p:nvPr/>
        </p:nvSpPr>
        <p:spPr>
          <a:xfrm>
            <a:off x="498600" y="5589720"/>
            <a:ext cx="139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Theater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5" name="Rechteck 35"/>
          <p:cNvSpPr/>
          <p:nvPr/>
        </p:nvSpPr>
        <p:spPr>
          <a:xfrm>
            <a:off x="2771640" y="1773360"/>
            <a:ext cx="29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Ferdinand Simon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6" name="Rechteck 36"/>
          <p:cNvSpPr/>
          <p:nvPr/>
        </p:nvSpPr>
        <p:spPr>
          <a:xfrm>
            <a:off x="6936840" y="3116160"/>
            <a:ext cx="21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August Bebel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7" name="Rechteck 37"/>
          <p:cNvSpPr/>
          <p:nvPr/>
        </p:nvSpPr>
        <p:spPr>
          <a:xfrm>
            <a:off x="6101640" y="287028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Alkoholismus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8" name="Rechteck 38"/>
          <p:cNvSpPr/>
          <p:nvPr/>
        </p:nvSpPr>
        <p:spPr>
          <a:xfrm>
            <a:off x="324000" y="1125360"/>
            <a:ext cx="266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Vererbungslehr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9" name="Rechteck 39"/>
          <p:cNvSpPr/>
          <p:nvPr/>
        </p:nvSpPr>
        <p:spPr>
          <a:xfrm>
            <a:off x="713880" y="298296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Übermensch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0" name="Rechteck 40"/>
          <p:cNvSpPr/>
          <p:nvPr/>
        </p:nvSpPr>
        <p:spPr>
          <a:xfrm>
            <a:off x="6227640" y="1268280"/>
            <a:ext cx="343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Friedrich Nietzsch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1" name="Rechteck 41"/>
          <p:cNvSpPr/>
          <p:nvPr/>
        </p:nvSpPr>
        <p:spPr>
          <a:xfrm>
            <a:off x="6851520" y="907920"/>
            <a:ext cx="17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Karl Marx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advTm="178000">
    <p:fade thruBlk="true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600"/>
                            </p:stCondLst>
                            <p:childTnLst>
                              <p:par>
                                <p:cTn id="28" nodeType="afterEffect" fill="hold" presetClass="exit" presetID="43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600"/>
                            </p:stCondLst>
                            <p:childTnLst>
                              <p:par>
                                <p:cTn id="3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9600"/>
                            </p:stCondLst>
                            <p:childTnLst>
                              <p:par>
                                <p:cTn id="44" nodeType="afterEffect" fill="hold" presetClass="exit" presetID="43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9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1600"/>
                            </p:stCondLst>
                            <p:childTnLst>
                              <p:par>
                                <p:cTn id="5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3800"/>
                            </p:stCondLst>
                            <p:childTnLst>
                              <p:par>
                                <p:cTn id="60" nodeType="afterEffect" fill="hold" presetClass="exit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4800"/>
                            </p:stCondLst>
                            <p:childTnLst>
                              <p:par>
                                <p:cTn id="68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8000"/>
                            </p:stCondLst>
                            <p:childTnLst>
                              <p:par>
                                <p:cTn id="7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1000"/>
                            </p:stCondLst>
                            <p:childTnLst>
                              <p:par>
                                <p:cTn id="8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5200"/>
                            </p:stCondLst>
                            <p:childTnLst>
                              <p:par>
                                <p:cTn id="92" nodeType="afterEffect" fill="hold" presetClass="exit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7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6200"/>
                            </p:stCondLst>
                            <p:childTnLst>
                              <p:par>
                                <p:cTn id="100" nodeType="afterEffect" fill="hold" presetClass="exit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5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7200"/>
                            </p:stCondLst>
                            <p:childTnLst>
                              <p:par>
                                <p:cTn id="108" nodeType="afterEffect" fill="hold" presetClass="exit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3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8200"/>
                            </p:stCondLst>
                            <p:childTnLst>
                              <p:par>
                                <p:cTn id="11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2600"/>
                            </p:stCondLst>
                            <p:childTnLst>
                              <p:par>
                                <p:cTn id="124" nodeType="afterEffect" fill="hold" presetClass="exit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2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9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33600"/>
                            </p:stCondLst>
                            <p:childTnLst>
                              <p:par>
                                <p:cTn id="13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6600"/>
                            </p:stCondLst>
                            <p:childTnLst>
                              <p:par>
                                <p:cTn id="14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9000"/>
                            </p:stCondLst>
                            <p:childTnLst>
                              <p:par>
                                <p:cTn id="148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42000"/>
                            </p:stCondLst>
                            <p:childTnLst>
                              <p:par>
                                <p:cTn id="15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47200"/>
                            </p:stCondLst>
                            <p:childTnLst>
                              <p:par>
                                <p:cTn id="16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49600"/>
                            </p:stCondLst>
                            <p:childTnLst>
                              <p:par>
                                <p:cTn id="17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3200"/>
                            </p:stCondLst>
                            <p:childTnLst>
                              <p:par>
                                <p:cTn id="180" nodeType="afterEffect" fill="hold" presetClass="exit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8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5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4200"/>
                            </p:stCondLst>
                            <p:childTnLst>
                              <p:par>
                                <p:cTn id="188" nodeType="afterEffect" fill="hold" presetClass="exit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8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3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5200"/>
                            </p:stCondLst>
                            <p:childTnLst>
                              <p:par>
                                <p:cTn id="196" nodeType="afterEffect" fill="hold" presetClass="exit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9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1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6200"/>
                            </p:stCondLst>
                            <p:childTnLst>
                              <p:par>
                                <p:cTn id="204" nodeType="afterEffect" fill="hold" presetClass="exit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0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9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7200"/>
                            </p:stCondLst>
                            <p:childTnLst>
                              <p:par>
                                <p:cTn id="212" nodeType="afterEffect" fill="hold" presetClass="exit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1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7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8200"/>
                            </p:stCondLst>
                            <p:childTnLst>
                              <p:par>
                                <p:cTn id="220" nodeType="afterEffect" fill="hold" presetClass="exit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2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5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9200"/>
                            </p:stCondLst>
                            <p:childTnLst>
                              <p:par>
                                <p:cTn id="228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61200"/>
                            </p:stCondLst>
                            <p:childTnLst>
                              <p:par>
                                <p:cTn id="236" nodeType="afterEffect" fill="hold" presetClass="exit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3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1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62200"/>
                            </p:stCondLst>
                            <p:childTnLst>
                              <p:par>
                                <p:cTn id="24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68200"/>
                            </p:stCondLst>
                            <p:childTnLst>
                              <p:par>
                                <p:cTn id="252" nodeType="afterEffect" fill="hold" presetClass="exit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5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7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69200"/>
                            </p:stCondLst>
                            <p:childTnLst>
                              <p:par>
                                <p:cTn id="26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72600"/>
                            </p:stCondLst>
                            <p:childTnLst>
                              <p:par>
                                <p:cTn id="268" nodeType="afterEffect" fill="hold" presetClass="exit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6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3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73600"/>
                            </p:stCondLst>
                            <p:childTnLst>
                              <p:par>
                                <p:cTn id="27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7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77600"/>
                            </p:stCondLst>
                            <p:childTnLst>
                              <p:par>
                                <p:cTn id="284" nodeType="afterEffect" fill="hold" presetClass="exit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8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9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78600"/>
                            </p:stCondLst>
                            <p:childTnLst>
                              <p:par>
                                <p:cTn id="29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81600"/>
                            </p:stCondLst>
                            <p:childTnLst>
                              <p:par>
                                <p:cTn id="300" nodeType="afterEffect" fill="hold" presetClass="exit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0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5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82600"/>
                            </p:stCondLst>
                            <p:childTnLst>
                              <p:par>
                                <p:cTn id="308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1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86400"/>
                            </p:stCondLst>
                            <p:childTnLst>
                              <p:par>
                                <p:cTn id="316" nodeType="afterEffect" fill="hold" presetClass="exit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1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1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87400"/>
                            </p:stCondLst>
                            <p:childTnLst>
                              <p:par>
                                <p:cTn id="32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2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90000"/>
                            </p:stCondLst>
                            <p:childTnLst>
                              <p:par>
                                <p:cTn id="33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93800"/>
                            </p:stCondLst>
                            <p:childTnLst>
                              <p:par>
                                <p:cTn id="340" nodeType="afterEffect" fill="hold" presetClass="exit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4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5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94800"/>
                            </p:stCondLst>
                            <p:childTnLst>
                              <p:par>
                                <p:cTn id="348" nodeType="afterEffect" fill="hold" presetClass="exit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4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3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95800"/>
                            </p:stCondLst>
                            <p:childTnLst>
                              <p:par>
                                <p:cTn id="35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99200"/>
                            </p:stCondLst>
                            <p:childTnLst>
                              <p:par>
                                <p:cTn id="36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01400"/>
                            </p:stCondLst>
                            <p:childTnLst>
                              <p:par>
                                <p:cTn id="372" nodeType="afterEffect" fill="hold" presetClass="exit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7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7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2400"/>
                            </p:stCondLst>
                            <p:childTnLst>
                              <p:par>
                                <p:cTn id="380" nodeType="afterEffect" fill="hold" presetClass="exit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8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5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03400"/>
                            </p:stCondLst>
                            <p:childTnLst>
                              <p:par>
                                <p:cTn id="388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9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09400"/>
                            </p:stCondLst>
                            <p:childTnLst>
                              <p:par>
                                <p:cTn id="396" nodeType="afterEffect" fill="hold" presetClass="exit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9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1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10400"/>
                            </p:stCondLst>
                            <p:childTnLst>
                              <p:par>
                                <p:cTn id="40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13800"/>
                            </p:stCondLst>
                            <p:childTnLst>
                              <p:par>
                                <p:cTn id="412" nodeType="afterEffect" fill="hold" presetClass="exit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1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7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14800"/>
                            </p:stCondLst>
                            <p:childTnLst>
                              <p:par>
                                <p:cTn id="42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18000"/>
                            </p:stCondLst>
                            <p:childTnLst>
                              <p:par>
                                <p:cTn id="428" nodeType="afterEffect" fill="hold" presetClass="exit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2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3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19000"/>
                            </p:stCondLst>
                            <p:childTnLst>
                              <p:par>
                                <p:cTn id="43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22600"/>
                            </p:stCondLst>
                            <p:childTnLst>
                              <p:par>
                                <p:cTn id="444" nodeType="afterEffect" fill="hold" presetClass="exit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4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9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23600"/>
                            </p:stCondLst>
                            <p:childTnLst>
                              <p:par>
                                <p:cTn id="45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26800"/>
                            </p:stCondLst>
                            <p:childTnLst>
                              <p:par>
                                <p:cTn id="46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6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31000"/>
                            </p:stCondLst>
                            <p:childTnLst>
                              <p:par>
                                <p:cTn id="468" nodeType="afterEffect" fill="hold" presetClass="exit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6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73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32000"/>
                            </p:stCondLst>
                            <p:childTnLst>
                              <p:par>
                                <p:cTn id="476" nodeType="afterEffect" fill="hold" presetClass="exit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7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1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33000"/>
                            </p:stCondLst>
                            <p:childTnLst>
                              <p:par>
                                <p:cTn id="48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8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35600"/>
                            </p:stCondLst>
                            <p:childTnLst>
                              <p:par>
                                <p:cTn id="492" nodeType="afterEffect" fill="hold" presetClass="exit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9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97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36600"/>
                            </p:stCondLst>
                            <p:childTnLst>
                              <p:par>
                                <p:cTn id="50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0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39600"/>
                            </p:stCondLst>
                            <p:childTnLst>
                              <p:par>
                                <p:cTn id="508" nodeType="afterEffect" fill="hold" presetClass="exit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0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3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40600"/>
                            </p:stCondLst>
                            <p:childTnLst>
                              <p:par>
                                <p:cTn id="51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42800"/>
                            </p:stCondLst>
                            <p:childTnLst>
                              <p:par>
                                <p:cTn id="524" nodeType="afterEffect" fill="hold" presetClass="exit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2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29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143800"/>
                            </p:stCondLst>
                            <p:childTnLst>
                              <p:par>
                                <p:cTn id="53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147400"/>
                            </p:stCondLst>
                            <p:childTnLst>
                              <p:par>
                                <p:cTn id="540" nodeType="afterEffect" fill="hold" presetClass="exit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4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45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48400"/>
                            </p:stCondLst>
                            <p:childTnLst>
                              <p:par>
                                <p:cTn id="548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151400"/>
                            </p:stCondLst>
                            <p:childTnLst>
                              <p:par>
                                <p:cTn id="55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5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154600"/>
                            </p:stCondLst>
                            <p:childTnLst>
                              <p:par>
                                <p:cTn id="564" nodeType="afterEffect" fill="hold" presetClass="exit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6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69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155600"/>
                            </p:stCondLst>
                            <p:childTnLst>
                              <p:par>
                                <p:cTn id="572" nodeType="afterEffect" fill="hold" presetClass="exit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7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77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56600"/>
                            </p:stCondLst>
                            <p:childTnLst>
                              <p:par>
                                <p:cTn id="58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160400"/>
                            </p:stCondLst>
                            <p:childTnLst>
                              <p:par>
                                <p:cTn id="588" nodeType="afterEffect" fill="hold" presetClass="exit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8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93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161400"/>
                            </p:stCondLst>
                            <p:childTnLst>
                              <p:par>
                                <p:cTn id="59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164200"/>
                            </p:stCondLst>
                            <p:childTnLst>
                              <p:par>
                                <p:cTn id="604" nodeType="afterEffect" fill="hold" presetClass="exit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0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09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165200"/>
                            </p:stCondLst>
                            <p:childTnLst>
                              <p:par>
                                <p:cTn id="61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169600"/>
                            </p:stCondLst>
                            <p:childTnLst>
                              <p:par>
                                <p:cTn id="620" nodeType="afterEffect" fill="hold" presetClass="exit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2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25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170600"/>
                            </p:stCondLst>
                            <p:childTnLst>
                              <p:par>
                                <p:cTn id="628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173000"/>
                            </p:stCondLst>
                            <p:childTnLst>
                              <p:par>
                                <p:cTn id="636" nodeType="afterEffect" fill="hold" presetClass="exit" presetID="43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3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41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hteck 3"/>
          <p:cNvSpPr/>
          <p:nvPr/>
        </p:nvSpPr>
        <p:spPr>
          <a:xfrm>
            <a:off x="4932360" y="476280"/>
            <a:ext cx="4572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Naturalismus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Arno Holz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Johannes Schlaf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Berlin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literarischer Verein "Durch"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Experiment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Analys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Empiri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Determinismus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Willensfreiheit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Theater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Emile Zola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Nora, Gespenster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Henrik Ibsen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Freie Bühne Berlin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Milieutheori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3" name="Rechteck 4"/>
          <p:cNvSpPr/>
          <p:nvPr/>
        </p:nvSpPr>
        <p:spPr>
          <a:xfrm>
            <a:off x="2050920" y="333360"/>
            <a:ext cx="4572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nstantia"/>
              </a:rPr>
              <a:t>Naturwissenschaft/Religion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nstantia"/>
              </a:rPr>
              <a:t>Charles Darwin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nstantia"/>
              </a:rPr>
              <a:t>Ernst Haeckel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nstantia"/>
              </a:rPr>
              <a:t>Wilhelm Bölsch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nstantia"/>
              </a:rPr>
              <a:t>Abstammungslehr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nstantia"/>
              </a:rPr>
              <a:t>Karl Marx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nstantia"/>
              </a:rPr>
              <a:t>Friedrich Nietzsch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nstantia"/>
              </a:rPr>
              <a:t>Übermensch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nstantia"/>
              </a:rPr>
              <a:t>Vererbungslehr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nstantia"/>
              </a:rPr>
              <a:t>Alkoholismus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nstantia"/>
              </a:rPr>
              <a:t>Ferdinand Simon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nstantia"/>
              </a:rPr>
              <a:t>August Bebel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nstantia"/>
              </a:rPr>
              <a:t>August Forel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nstantia"/>
              </a:rPr>
              <a:t>Alfred Ploetz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nstantia"/>
              </a:rPr>
              <a:t>Marxismus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nstantia"/>
              </a:rPr>
              <a:t>Abstinenzbewegung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4" name="Rechteck 5"/>
          <p:cNvSpPr/>
          <p:nvPr/>
        </p:nvSpPr>
        <p:spPr>
          <a:xfrm>
            <a:off x="250920" y="1413000"/>
            <a:ext cx="457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nstantia"/>
              </a:rPr>
              <a:t>vierter Stand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nstantia"/>
              </a:rPr>
              <a:t>Sozialismus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nstantia"/>
              </a:rPr>
              <a:t>Sozialistengesetz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nstantia"/>
              </a:rPr>
              <a:t>Industrialisierung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nstantia"/>
              </a:rPr>
              <a:t>Pauperismus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nstantia"/>
              </a:rPr>
              <a:t>Bismarck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nstantia"/>
              </a:rPr>
              <a:t>Kaiserreich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nstantia"/>
              </a:rPr>
              <a:t>Arbeiterschaft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 advTm="40000">
    <p:fade thruBlk="true"/>
  </p:transition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0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5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5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15000"/>
                            </p:stCondLst>
                            <p:childTnLst>
                              <p:par>
                                <p:cTn id="652" nodeType="afterEffect" fill="hold" presetClass="entr" presetID="5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24200"/>
                            </p:stCondLst>
                            <p:childTnLst>
                              <p:par>
                                <p:cTn id="660" nodeType="afterEffect" fill="hold" presetClass="exit" presetID="54">
                                  <p:stCondLst>
                                    <p:cond delay="200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61" dur="10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65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29600"/>
                            </p:stCondLst>
                            <p:childTnLst>
                              <p:par>
                                <p:cTn id="66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77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1" dur="770" fill="hold"/>
                                        <p:tgtEl>
                                          <p:spTgt spid="2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3" dur="77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5" dur="77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31600"/>
                            </p:stCondLst>
                            <p:childTnLst>
                              <p:par>
                                <p:cTn id="678" nodeType="afterEffect" fill="hold" presetClass="exit" presetID="51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9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0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681" dur="1230" fill="hold"/>
                                        <p:tgtEl>
                                          <p:spTgt spid="294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682" dur="123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683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684" dur="123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685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10:58:59Z</dcterms:created>
  <dc:creator>Physik 142-1</dc:creator>
  <dc:description/>
  <dc:language>en-US</dc:language>
  <cp:lastModifiedBy>UR007-PC14</cp:lastModifiedBy>
  <dcterms:modified xsi:type="dcterms:W3CDTF">2012-02-29T15:08:17Z</dcterms:modified>
  <cp:revision>15</cp:revision>
  <dc:subject/>
  <dc:title>Folie 1</dc:title>
</cp:coreProperties>
</file>