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4ED-793E-4E29-AA8D-61EE4814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BC7-06C4-4488-BA9D-38F7DF93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ED3-823B-40BB-B0F1-A1D0C8D6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29C-F5F1-43C0-B827-7231D5F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7D5-2443-419C-A3E7-65F05CC5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152-AA37-40BA-9D1E-43E4E88E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5FA-A9A2-4C2D-B2E0-7711F49D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307-8B66-4595-88E6-877B68B5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DB5-987F-4EEB-A124-5252C76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228-5454-4B1E-9B5C-F6E4B1F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0DE-25F8-49F8-9CE2-89D788DC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59A-E6BF-438C-BB6F-2CA063F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981-25EA-466A-9D29-7A708C6A8A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13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22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25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 Light"/>
              </a:rPr>
              <a:t>Epochenquiz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fklärung – Empfindsamkeit – Sturm und Dr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t Fragen zu Goethes Wer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Beenden Sie folgenden Satz: „Aufklärung ist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9"/>
          <p:cNvSpPr/>
          <p:nvPr/>
        </p:nvSpPr>
        <p:spPr>
          <a:xfrm>
            <a:off x="6540480" y="2031840"/>
            <a:ext cx="345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… der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2" action="ppaction://hlinksldjump"/>
              </a:rPr>
              <a:t>Ausgang des Menschen aus seiner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unverschuldeten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Unmündigkeit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lussdiagramm: Prozess 12">
            <a:hlinkClick r:id="rId6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feld 14"/>
          <p:cNvSpPr/>
          <p:nvPr/>
        </p:nvSpPr>
        <p:spPr>
          <a:xfrm>
            <a:off x="1828800" y="1932120"/>
            <a:ext cx="33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7" action="ppaction://hlinksldjump"/>
              </a:rPr>
              <a:t>… der Ausgang des Menschen aus seiner selbstverschuldeten Unmündigkeit.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feld 15"/>
          <p:cNvSpPr/>
          <p:nvPr/>
        </p:nvSpPr>
        <p:spPr>
          <a:xfrm>
            <a:off x="1844640" y="434196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8" action="ppaction://hlinksldjump"/>
              </a:rPr>
              <a:t>… der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9" action="ppaction://hlinksldjump"/>
              </a:rPr>
              <a:t>Ausgang des Menschen aus seiner selbstverschuldeten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0" action="ppaction://hlinksldjump"/>
              </a:rPr>
              <a:t>Mündigkeit.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feld 16"/>
          <p:cNvSpPr/>
          <p:nvPr/>
        </p:nvSpPr>
        <p:spPr>
          <a:xfrm>
            <a:off x="6715080" y="4341960"/>
            <a:ext cx="34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1" action="ppaction://hlinksldjump"/>
              </a:rPr>
              <a:t>… der Eintritt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2" action="ppaction://hlinksldjump"/>
              </a:rPr>
              <a:t>des Menschen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3" action="ppaction://hlinksldjump"/>
              </a:rPr>
              <a:t>in seine unverschuldete 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4" action="ppaction://hlinksldjump"/>
              </a:rPr>
              <a:t>Unmündigkeit</a:t>
            </a: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15" action="ppaction://hlinksldjump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In der Literatur des „Sturm und Drang“ ist der Held oft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feld 9"/>
          <p:cNvSpPr/>
          <p:nvPr/>
        </p:nvSpPr>
        <p:spPr>
          <a:xfrm>
            <a:off x="6540480" y="2031840"/>
            <a:ext cx="34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… der Wissenschaft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feld 14"/>
          <p:cNvSpPr/>
          <p:nvPr/>
        </p:nvSpPr>
        <p:spPr>
          <a:xfrm>
            <a:off x="1800360" y="2271600"/>
            <a:ext cx="33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… der Abenteur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feld 15"/>
          <p:cNvSpPr/>
          <p:nvPr/>
        </p:nvSpPr>
        <p:spPr>
          <a:xfrm>
            <a:off x="1844640" y="45673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… das Gen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feld 16"/>
          <p:cNvSpPr/>
          <p:nvPr/>
        </p:nvSpPr>
        <p:spPr>
          <a:xfrm>
            <a:off x="6715080" y="4541760"/>
            <a:ext cx="31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… der Fürs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49240" y="365040"/>
            <a:ext cx="10793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Welches der folgenden Themen ist typisch für die Epoche der „Empfindsamkeit“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feld 9"/>
          <p:cNvSpPr/>
          <p:nvPr/>
        </p:nvSpPr>
        <p:spPr>
          <a:xfrm>
            <a:off x="7389720" y="24447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1" action="ppaction://hlinksldjump"/>
              </a:rPr>
              <a:t>Na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feld 14"/>
          <p:cNvSpPr/>
          <p:nvPr/>
        </p:nvSpPr>
        <p:spPr>
          <a:xfrm>
            <a:off x="2678040" y="2271600"/>
            <a:ext cx="242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3" action="ppaction://hlinksldjump"/>
              </a:rPr>
              <a:t>Eitelk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feld 15"/>
          <p:cNvSpPr/>
          <p:nvPr/>
        </p:nvSpPr>
        <p:spPr>
          <a:xfrm>
            <a:off x="1844640" y="45673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4" action="ppaction://hlinksldjump"/>
              </a:rPr>
              <a:t>Erhabenheit des Denk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feld 16"/>
          <p:cNvSpPr/>
          <p:nvPr/>
        </p:nvSpPr>
        <p:spPr>
          <a:xfrm>
            <a:off x="7477200" y="454176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Sch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Welcher literarischen Epoche wird das Werk Klopstocks zugerechne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feld 9"/>
          <p:cNvSpPr/>
          <p:nvPr/>
        </p:nvSpPr>
        <p:spPr>
          <a:xfrm>
            <a:off x="6715080" y="22557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Sturm und Dra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14"/>
          <p:cNvSpPr/>
          <p:nvPr/>
        </p:nvSpPr>
        <p:spPr>
          <a:xfrm>
            <a:off x="2076480" y="2263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Aufklä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15"/>
          <p:cNvSpPr/>
          <p:nvPr/>
        </p:nvSpPr>
        <p:spPr>
          <a:xfrm>
            <a:off x="1828800" y="47577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Empfindsamke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feld 16"/>
          <p:cNvSpPr/>
          <p:nvPr/>
        </p:nvSpPr>
        <p:spPr>
          <a:xfrm>
            <a:off x="7394400" y="4745160"/>
            <a:ext cx="22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Klass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492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Der Name „Sturm und Drang“ kommt vom gleichnamigen Drama von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515280" y="21970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1" action="ppaction://hlinksldjump"/>
              </a:rPr>
              <a:t>Johann Gottfried He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1844640" y="22716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3" action="ppaction://hlinksldjump"/>
              </a:rPr>
              <a:t>Maximilian Kli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feld 15"/>
          <p:cNvSpPr/>
          <p:nvPr/>
        </p:nvSpPr>
        <p:spPr>
          <a:xfrm>
            <a:off x="1844640" y="45673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4" action="ppaction://hlinksldjump"/>
              </a:rPr>
              <a:t>Gotthold Ephraim L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feld 16"/>
          <p:cNvSpPr/>
          <p:nvPr/>
        </p:nvSpPr>
        <p:spPr>
          <a:xfrm>
            <a:off x="6616800" y="454176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Friedrich Schi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92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Der Freiheitsbegriff im „Sturm und Drang“ drückte sich aus in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feld 9"/>
          <p:cNvSpPr/>
          <p:nvPr/>
        </p:nvSpPr>
        <p:spPr>
          <a:xfrm>
            <a:off x="6515280" y="21970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1" action="ppaction://hlinksldjump"/>
              </a:rPr>
              <a:t>…der Befreiung von der Religiositä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feld 14"/>
          <p:cNvSpPr/>
          <p:nvPr/>
        </p:nvSpPr>
        <p:spPr>
          <a:xfrm>
            <a:off x="1863720" y="211608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3" action="ppaction://hlinksldjump"/>
              </a:rPr>
              <a:t>…der Freiheit zum Benutzen des eigenen Verstan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feld 15"/>
          <p:cNvSpPr/>
          <p:nvPr/>
        </p:nvSpPr>
        <p:spPr>
          <a:xfrm>
            <a:off x="1908000" y="457992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4" action="ppaction://hlinksldjump"/>
              </a:rPr>
              <a:t>…der regelloseren Form der Litera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feld 16"/>
          <p:cNvSpPr/>
          <p:nvPr/>
        </p:nvSpPr>
        <p:spPr>
          <a:xfrm>
            <a:off x="6715080" y="45799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…der umfassenden Befreiung von der Na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492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Goethe wählte für den Werther die Form des Briefromans, weil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feld 9"/>
          <p:cNvSpPr/>
          <p:nvPr/>
        </p:nvSpPr>
        <p:spPr>
          <a:xfrm>
            <a:off x="6515280" y="19749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563c1"/>
                </a:solidFill>
                <a:uFillTx/>
                <a:latin typeface="Arial"/>
                <a:ea typeface="Calibri"/>
                <a:hlinkClick r:id="rId1" action="ppaction://hlinksldjump"/>
              </a:rPr>
              <a:t>…dies die gängigste Form des Schreibens im ausgehenden 18. Jhdt. w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feld 14"/>
          <p:cNvSpPr/>
          <p:nvPr/>
        </p:nvSpPr>
        <p:spPr>
          <a:xfrm>
            <a:off x="1863720" y="211608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dies seine Lieblingsform des Schreibens w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feld 15"/>
          <p:cNvSpPr/>
          <p:nvPr/>
        </p:nvSpPr>
        <p:spPr>
          <a:xfrm>
            <a:off x="1908000" y="4579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er darin eigene Briefe abdrucken konn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feld 16"/>
          <p:cNvSpPr/>
          <p:nvPr/>
        </p:nvSpPr>
        <p:spPr>
          <a:xfrm>
            <a:off x="6715080" y="4579920"/>
            <a:ext cx="32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er so die Gefühle Werthers am besten ausdrücken kon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924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Das Drama war die wichtigste literarische Gattung in der „Aufklärung“,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feld 9"/>
          <p:cNvSpPr/>
          <p:nvPr/>
        </p:nvSpPr>
        <p:spPr>
          <a:xfrm>
            <a:off x="6515280" y="211284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weil es die Menschen zum Nachdenken anreg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lussdiagramm: Prozess 12"/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feld 14"/>
          <p:cNvSpPr/>
          <p:nvPr/>
        </p:nvSpPr>
        <p:spPr>
          <a:xfrm>
            <a:off x="1863720" y="211608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weil es sich gegen eine emotionalisierte Lyrik wand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feld 15"/>
          <p:cNvSpPr/>
          <p:nvPr/>
        </p:nvSpPr>
        <p:spPr>
          <a:xfrm>
            <a:off x="1908000" y="457992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weil es den Menschen soziale Kontakte vermittel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feld 16"/>
          <p:cNvSpPr/>
          <p:nvPr/>
        </p:nvSpPr>
        <p:spPr>
          <a:xfrm>
            <a:off x="6715080" y="4394160"/>
            <a:ext cx="322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eil sich auf der Bühne am besten Gefühle ausdrücken lass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7080" y="365040"/>
            <a:ext cx="11318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 Light"/>
              </a:rPr>
              <a:t>Wie reagierte der Bürger in der „Empfindsamkeit“ auf seinen mangelnden politischen Einfluss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feld 9"/>
          <p:cNvSpPr/>
          <p:nvPr/>
        </p:nvSpPr>
        <p:spPr>
          <a:xfrm>
            <a:off x="6515280" y="193212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Er schloss sich politischen Gruppierungen im Untergrund 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lussdiagramm: Prozess 12"/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feld 14"/>
          <p:cNvSpPr/>
          <p:nvPr/>
        </p:nvSpPr>
        <p:spPr>
          <a:xfrm>
            <a:off x="1863720" y="1932120"/>
            <a:ext cx="325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Er verwirklichte sich durch die Bildung einer starken Persönlichke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feld 15"/>
          <p:cNvSpPr/>
          <p:nvPr/>
        </p:nvSpPr>
        <p:spPr>
          <a:xfrm>
            <a:off x="1886040" y="4341960"/>
            <a:ext cx="32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Calibri"/>
              </a:rPr>
              <a:t>Er verwirklichte sich durch ein verstärktes kirchliches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feld 16"/>
          <p:cNvSpPr/>
          <p:nvPr/>
        </p:nvSpPr>
        <p:spPr>
          <a:xfrm>
            <a:off x="6715080" y="4525920"/>
            <a:ext cx="32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r verließ das Land und es kam zu einer Auswanderungswel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In der Literaturwissenschaft ist die „Empfindsamkeit“ eine Epoche zwische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6715080" y="22557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1765 und 17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14"/>
          <p:cNvSpPr/>
          <p:nvPr/>
        </p:nvSpPr>
        <p:spPr>
          <a:xfrm>
            <a:off x="2076480" y="2263680"/>
            <a:ext cx="29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1740 und 17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15"/>
          <p:cNvSpPr/>
          <p:nvPr/>
        </p:nvSpPr>
        <p:spPr>
          <a:xfrm>
            <a:off x="1828800" y="47577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1650 und 1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6"/>
          <p:cNvSpPr/>
          <p:nvPr/>
        </p:nvSpPr>
        <p:spPr>
          <a:xfrm>
            <a:off x="6715080" y="4745160"/>
            <a:ext cx="29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1786 und 183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feld 4"/>
          <p:cNvSpPr/>
          <p:nvPr/>
        </p:nvSpPr>
        <p:spPr>
          <a:xfrm>
            <a:off x="3500280" y="2100240"/>
            <a:ext cx="584388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Richti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miley 2"/>
          <p:cNvSpPr/>
          <p:nvPr/>
        </p:nvSpPr>
        <p:spPr>
          <a:xfrm>
            <a:off x="6415200" y="2714760"/>
            <a:ext cx="1785960" cy="1728720"/>
          </a:xfrm>
          <a:prstGeom prst="smileyFace">
            <a:avLst>
              <a:gd name="adj" fmla="val 92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Welcher Bekannte Goethes war das Vorbild für Albert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Textfeld 2"/>
          <p:cNvSpPr/>
          <p:nvPr/>
        </p:nvSpPr>
        <p:spPr>
          <a:xfrm>
            <a:off x="6715080" y="1871640"/>
            <a:ext cx="363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7"/>
          <p:cNvSpPr/>
          <p:nvPr/>
        </p:nvSpPr>
        <p:spPr>
          <a:xfrm>
            <a:off x="6715080" y="1808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lussdiagramm: Prozess 8">
            <a:hlinkClick r:id="" action="ppaction://hlinkshowjump?jump=nextslide"/>
          </p:cNvPr>
          <p:cNvSpPr/>
          <p:nvPr/>
        </p:nvSpPr>
        <p:spPr>
          <a:xfrm>
            <a:off x="6315120" y="16905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9"/>
          <p:cNvSpPr/>
          <p:nvPr/>
        </p:nvSpPr>
        <p:spPr>
          <a:xfrm>
            <a:off x="6715080" y="22557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Karl Wilhelm Jerusa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ussdiagramm: Prozess 10">
            <a:hlinkClick r:id="" action="ppaction://hlinkshowjump?jump=nextslide"/>
          </p:cNvPr>
          <p:cNvSpPr/>
          <p:nvPr/>
        </p:nvSpPr>
        <p:spPr>
          <a:xfrm>
            <a:off x="1523880" y="169236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ussdiagramm: Prozess 12">
            <a:hlinkClick r:id="rId2" action="ppaction://hlinksldjump"/>
          </p:cNvPr>
          <p:cNvSpPr/>
          <p:nvPr/>
        </p:nvSpPr>
        <p:spPr>
          <a:xfrm>
            <a:off x="152388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lussdiagramm: Prozess 13">
            <a:hlinkClick r:id="" action="ppaction://hlinkshowjump?jump=nextslide"/>
          </p:cNvPr>
          <p:cNvSpPr/>
          <p:nvPr/>
        </p:nvSpPr>
        <p:spPr>
          <a:xfrm>
            <a:off x="6315120" y="4100400"/>
            <a:ext cx="3857760" cy="2052720"/>
          </a:xfrm>
          <a:prstGeom prst="flowChartProcess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feld 14"/>
          <p:cNvSpPr/>
          <p:nvPr/>
        </p:nvSpPr>
        <p:spPr>
          <a:xfrm>
            <a:off x="1800360" y="224964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3" action="ppaction://hlinksldjump"/>
              </a:rPr>
              <a:t>Friedrich Schil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feld 15"/>
          <p:cNvSpPr/>
          <p:nvPr/>
        </p:nvSpPr>
        <p:spPr>
          <a:xfrm>
            <a:off x="1828800" y="46353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4" action="ppaction://hlinksldjump"/>
              </a:rPr>
              <a:t>Gotthold Ephraim Le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feld 16"/>
          <p:cNvSpPr/>
          <p:nvPr/>
        </p:nvSpPr>
        <p:spPr>
          <a:xfrm>
            <a:off x="6715080" y="46054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0563c1"/>
                </a:solidFill>
                <a:uFillTx/>
                <a:latin typeface="Calibri"/>
                <a:hlinkClick r:id="rId5" action="ppaction://hlinksldjump"/>
              </a:rPr>
              <a:t>Johann Christian Kestn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75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 Light"/>
              </a:rPr>
              <a:t>Frage 1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Textfeld 4"/>
          <p:cNvSpPr/>
          <p:nvPr/>
        </p:nvSpPr>
        <p:spPr>
          <a:xfrm>
            <a:off x="4557600" y="2319480"/>
            <a:ext cx="348624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Calibri"/>
              </a:rPr>
              <a:t>Leider fals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witterblitz 2"/>
          <p:cNvSpPr/>
          <p:nvPr/>
        </p:nvSpPr>
        <p:spPr>
          <a:xfrm>
            <a:off x="6958080" y="2814480"/>
            <a:ext cx="771480" cy="1128960"/>
          </a:xfrm>
          <a:prstGeom prst="lightningBol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feil nach links 3"/>
          <p:cNvSpPr/>
          <p:nvPr/>
        </p:nvSpPr>
        <p:spPr>
          <a:xfrm>
            <a:off x="1028880" y="5129280"/>
            <a:ext cx="2700000" cy="152856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feld 5"/>
          <p:cNvSpPr/>
          <p:nvPr/>
        </p:nvSpPr>
        <p:spPr>
          <a:xfrm>
            <a:off x="1986120" y="564372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 action="ppaction://hlinksldjump"/>
              </a:rPr>
              <a:t>zurü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12:50:10Z</dcterms:created>
  <dc:creator>lfbuser</dc:creator>
  <dc:description/>
  <dc:language>en-US</dc:language>
  <cp:lastModifiedBy>Michael Kazenwadel</cp:lastModifiedBy>
  <dcterms:modified xsi:type="dcterms:W3CDTF">2015-02-16T10:29:28Z</dcterms:modified>
  <cp:revision>34</cp:revision>
  <dc:subject/>
  <dc:title>Epochenquiz</dc:title>
</cp:coreProperties>
</file>