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46CB-C297-4985-BF6D-870960E6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6630-11EF-4112-BD12-7CFDDABD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C6BD-9B8D-4F06-976F-2D2CC292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0645-4AA2-44BC-8435-CE18C590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E209-C9C3-418E-A7BA-CF2D9AE6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9FCF-EB2A-4EC7-9B1E-70B7241A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D705-EAAE-47B6-9689-F83B0212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8ACC-D2A7-4FA6-A3CE-644EF702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47FA-CD9B-4A4C-B2C8-5AB9FE57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E231-4702-468F-B424-94019C49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B8F8-9F98-4466-A95A-0E92ED0B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C5C6-0060-4C46-9CA0-EE143DF0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8DD3-B1D8-4B32-8A4D-86711FF49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faber_motivverflechtung_loesung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0400" y="5335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Frisch: Homo fa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121932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men- und Motiv-Verflechtu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2668680"/>
            <a:ext cx="5943600" cy="177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r Autor und Architekt baut, konstruiert, komponiert eine komplizierte Handlung, die durch eine architektonische Konstruktion sinnig zusammengehalten wi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&gt;&gt; „rote Fäde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4869000"/>
            <a:ext cx="5113080" cy="17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ufga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Beschriften Sie die roten / blauen Linien nach dem Muster Nr. 1 und Nr.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Lösungsvorschlag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429000"/>
            <a:ext cx="990720" cy="45720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w Y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153280" y="3429000"/>
            <a:ext cx="990720" cy="4572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048120"/>
            <a:ext cx="990720" cy="457200"/>
          </a:xfrm>
          <a:prstGeom prst="cube">
            <a:avLst>
              <a:gd name="adj" fmla="val 25000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153280" y="2981160"/>
            <a:ext cx="990720" cy="4572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/>
          <p:nvPr/>
        </p:nvCxnSpPr>
        <p:spPr>
          <a:xfrm flipH="1" flipV="1" rot="5400000">
            <a:off x="4538160" y="-1148040"/>
            <a:ext cx="67680" cy="8154000"/>
          </a:xfrm>
          <a:prstGeom prst="curvedConnector5">
            <a:avLst>
              <a:gd name="adj1" fmla="val 4051871"/>
              <a:gd name="adj2" fmla="val 49997"/>
              <a:gd name="adj3" fmla="val 4051871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 flipV="1" rot="12271200">
            <a:off x="6209640" y="686520"/>
            <a:ext cx="18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ndheitsmotiv: Ödi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7" idx="0"/>
            <a:endCxn id="48" idx="0"/>
          </p:cNvCxnSpPr>
          <p:nvPr/>
        </p:nvCxnSpPr>
        <p:spPr>
          <a:xfrm flipH="1" flipV="1" rot="5400000">
            <a:off x="4595400" y="-1062360"/>
            <a:ext cx="67680" cy="8154000"/>
          </a:xfrm>
          <a:prstGeom prst="curvedConnector5">
            <a:avLst>
              <a:gd name="adj1" fmla="val 3604278"/>
              <a:gd name="adj2" fmla="val 49997"/>
              <a:gd name="adj3" fmla="val 3604278"/>
            </a:avLst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7" idx="0"/>
            <a:endCxn id="48" idx="0"/>
          </p:cNvCxnSpPr>
          <p:nvPr/>
        </p:nvCxnSpPr>
        <p:spPr>
          <a:xfrm flipH="1" flipV="1" rot="5400000">
            <a:off x="4595400" y="-1062360"/>
            <a:ext cx="67680" cy="8154000"/>
          </a:xfrm>
          <a:prstGeom prst="curvedConnector5">
            <a:avLst>
              <a:gd name="adj1" fmla="val 2751871"/>
              <a:gd name="adj2" fmla="val 49997"/>
              <a:gd name="adj3" fmla="val 2751871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7" idx="0"/>
            <a:endCxn id="48" idx="1"/>
          </p:cNvCxnSpPr>
          <p:nvPr/>
        </p:nvCxnSpPr>
        <p:spPr>
          <a:xfrm flipH="1" rot="16200000">
            <a:off x="4548240" y="-947880"/>
            <a:ext cx="48240" cy="8039520"/>
          </a:xfrm>
          <a:prstGeom prst="curvedConnector5">
            <a:avLst>
              <a:gd name="adj1" fmla="val -2679699"/>
              <a:gd name="adj2" fmla="val 49997"/>
              <a:gd name="adj3" fmla="val -2679699"/>
            </a:avLst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7" idx="0"/>
            <a:endCxn id="48" idx="1"/>
          </p:cNvCxnSpPr>
          <p:nvPr/>
        </p:nvCxnSpPr>
        <p:spPr>
          <a:xfrm flipH="1" rot="16200000">
            <a:off x="4548240" y="-947880"/>
            <a:ext cx="48240" cy="8039520"/>
          </a:xfrm>
          <a:prstGeom prst="curvedConnector5">
            <a:avLst>
              <a:gd name="adj1" fmla="val -1509774"/>
              <a:gd name="adj2" fmla="val 49997"/>
              <a:gd name="adj3" fmla="val -1509774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55" name=""/>
          <p:cNvGrpSpPr/>
          <p:nvPr/>
        </p:nvGrpSpPr>
        <p:grpSpPr>
          <a:xfrm>
            <a:off x="444240" y="83880"/>
            <a:ext cx="2911320" cy="1978920"/>
            <a:chOff x="444240" y="83880"/>
            <a:chExt cx="2911320" cy="1978920"/>
          </a:xfrm>
        </p:grpSpPr>
        <p:sp>
          <p:nvSpPr>
            <p:cNvPr id="56" name=""/>
            <p:cNvSpPr/>
            <p:nvPr/>
          </p:nvSpPr>
          <p:spPr>
            <a:xfrm rot="18829800">
              <a:off x="333000" y="13338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Spiegelszen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20037600">
              <a:off x="1289880" y="533160"/>
              <a:ext cx="211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drängte Selbsterkenntn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43000" y="2819520"/>
            <a:ext cx="6858000" cy="83808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e Story/Fabel: ein Ausschnitt aus dem Leben Walter Faber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gegnung mit Sabeth, Inzest und beider (?) T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5" idx="3"/>
            <a:endCxn id="46" idx="3"/>
          </p:cNvCxnSpPr>
          <p:nvPr/>
        </p:nvCxnSpPr>
        <p:spPr>
          <a:xfrm flipH="1" rot="16200000">
            <a:off x="4514040" y="-190080"/>
            <a:ext cx="2160" cy="8154000"/>
          </a:xfrm>
          <a:prstGeom prst="curvedConnector5">
            <a:avLst>
              <a:gd name="adj1" fmla="val 20980000"/>
              <a:gd name="adj2" fmla="val 49997"/>
              <a:gd name="adj3" fmla="val 2098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" name=""/>
          <p:cNvCxnSpPr/>
          <p:nvPr/>
        </p:nvCxnSpPr>
        <p:spPr>
          <a:xfrm flipH="1" rot="16200000">
            <a:off x="4665240" y="-37800"/>
            <a:ext cx="2520" cy="8154360"/>
          </a:xfrm>
          <a:prstGeom prst="curvedConnector5">
            <a:avLst>
              <a:gd name="adj1" fmla="val 55783333"/>
              <a:gd name="adj2" fmla="val 50000"/>
              <a:gd name="adj3" fmla="val 55783333"/>
            </a:avLst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61" name=""/>
          <p:cNvCxnSpPr/>
          <p:nvPr/>
        </p:nvCxnSpPr>
        <p:spPr>
          <a:xfrm flipH="1" rot="16200000">
            <a:off x="4545360" y="-263880"/>
            <a:ext cx="2520" cy="8638200"/>
          </a:xfrm>
          <a:prstGeom prst="curvedConnector5">
            <a:avLst>
              <a:gd name="adj1" fmla="val 89283333"/>
              <a:gd name="adj2" fmla="val 50000"/>
              <a:gd name="adj3" fmla="val 8928333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4568040" y="529200"/>
            <a:ext cx="2160" cy="8998560"/>
          </a:xfrm>
          <a:prstGeom prst="curvedConnector5">
            <a:avLst>
              <a:gd name="adj1" fmla="val 98480000"/>
              <a:gd name="adj2" fmla="val 49997"/>
              <a:gd name="adj3" fmla="val 9848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5" idx="2"/>
            <a:endCxn id="46" idx="4"/>
          </p:cNvCxnSpPr>
          <p:nvPr/>
        </p:nvCxnSpPr>
        <p:spPr>
          <a:xfrm>
            <a:off x="-1080" y="3714840"/>
            <a:ext cx="9030600" cy="2160"/>
          </a:xfrm>
          <a:prstGeom prst="curvedConnector5">
            <a:avLst>
              <a:gd name="adj1" fmla="val 1156"/>
              <a:gd name="adj2" fmla="val 74680000"/>
              <a:gd name="adj3" fmla="val 1156"/>
            </a:avLst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 rot="977400">
            <a:off x="457920" y="5738400"/>
            <a:ext cx="21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ntfremdet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rac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498000">
            <a:off x="2361960" y="6200280"/>
            <a:ext cx="266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minalisiert, attribuisiert, verb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219200">
            <a:off x="294480" y="6028920"/>
            <a:ext cx="20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rasen, Floskeln, Ellips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20717400">
            <a:off x="5362560" y="5867280"/>
            <a:ext cx="326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sonst nicht meine Art ist.“ „wie üblich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0717400">
            <a:off x="5735520" y="6257520"/>
            <a:ext cx="25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-Pong-Sprachspiel: Vergle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7T04:32:32Z</dcterms:created>
  <dc:creator>Michael Seeger</dc:creator>
  <dc:description/>
  <dc:language>en-US</dc:language>
  <cp:lastModifiedBy>user</cp:lastModifiedBy>
  <dcterms:modified xsi:type="dcterms:W3CDTF">2011-11-20T16:27:12Z</dcterms:modified>
  <cp:revision>12</cp:revision>
  <dc:subject/>
  <dc:title>PowerPoint-Präsentation</dc:title>
</cp:coreProperties>
</file>