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D1F-9013-4BB9-9068-2E23D002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EA2-809F-4331-A973-6D6862FB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8A7-BD19-401A-B80E-CF297A26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AE4-7E00-4DEC-B724-984BB96D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136-1AB5-4B58-95DE-9DC3D742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9F4-4995-4BA8-9A91-E461AFB4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F94-7F6D-42C0-B609-F79B0FC1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018-AB0E-477F-A5E9-681BCE92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23F-60FE-47B5-B4C3-9E68CAE4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1F4-0840-4DAC-94C0-D47C3C2C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292-E2CA-4909-9FE8-B6B07D3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B81-C5EF-4E28-B163-7E64DFD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B0D0-2C9A-48C8-8363-E61221E3ED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267080" y="4419720"/>
            <a:ext cx="4647600" cy="1143000"/>
            <a:chOff x="4267080" y="4419720"/>
            <a:chExt cx="4647600" cy="1143000"/>
          </a:xfrm>
        </p:grpSpPr>
        <p:grpSp>
          <p:nvGrpSpPr>
            <p:cNvPr id="42" name=""/>
            <p:cNvGrpSpPr/>
            <p:nvPr/>
          </p:nvGrpSpPr>
          <p:grpSpPr>
            <a:xfrm>
              <a:off x="4267080" y="4419720"/>
              <a:ext cx="4647600" cy="1143000"/>
              <a:chOff x="4267080" y="4419720"/>
              <a:chExt cx="4647600" cy="1143000"/>
            </a:xfrm>
          </p:grpSpPr>
          <p:sp>
            <p:nvSpPr>
              <p:cNvPr id="43" name=""/>
              <p:cNvSpPr/>
              <p:nvPr/>
            </p:nvSpPr>
            <p:spPr>
              <a:xfrm>
                <a:off x="4267080" y="4419720"/>
                <a:ext cx="1590120" cy="11430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857200" y="4419720"/>
                <a:ext cx="158976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446960" y="4419720"/>
                <a:ext cx="1467720" cy="114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4800600" y="4572000"/>
              <a:ext cx="4038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800" spc="-1" strike="noStrike">
                  <a:solidFill>
                    <a:srgbClr val="ffffff"/>
                  </a:solidFill>
                  <a:latin typeface="Arial"/>
                </a:rPr>
                <a:t>Fra</a:t>
              </a:r>
              <a:r>
                <a:rPr b="1" lang="de-DE" sz="4800" spc="-1" strike="noStrike">
                  <a:solidFill>
                    <a:srgbClr val="000000"/>
                  </a:solidFill>
                  <a:latin typeface="Arial"/>
                </a:rPr>
                <a:t>nzösisc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20" y="533520"/>
            <a:ext cx="4571280" cy="1143000"/>
            <a:chOff x="304920" y="533520"/>
            <a:chExt cx="4571280" cy="1143000"/>
          </a:xfrm>
        </p:grpSpPr>
        <p:grpSp>
          <p:nvGrpSpPr>
            <p:cNvPr id="48" name=""/>
            <p:cNvGrpSpPr/>
            <p:nvPr/>
          </p:nvGrpSpPr>
          <p:grpSpPr>
            <a:xfrm>
              <a:off x="304920" y="533520"/>
              <a:ext cx="4571280" cy="1143000"/>
              <a:chOff x="304920" y="533520"/>
              <a:chExt cx="4571280" cy="1143000"/>
            </a:xfrm>
          </p:grpSpPr>
          <p:sp>
            <p:nvSpPr>
              <p:cNvPr id="49" name=""/>
              <p:cNvSpPr/>
              <p:nvPr/>
            </p:nvSpPr>
            <p:spPr>
              <a:xfrm>
                <a:off x="304920" y="533520"/>
                <a:ext cx="1564200" cy="11430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69120" y="533520"/>
                <a:ext cx="156348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32600" y="533520"/>
                <a:ext cx="1443600" cy="114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66680" y="68580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Inf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s zu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514600"/>
            <a:ext cx="4952880" cy="1143000"/>
            <a:chOff x="2286000" y="2514600"/>
            <a:chExt cx="4952880" cy="1143000"/>
          </a:xfrm>
        </p:grpSpPr>
        <p:grpSp>
          <p:nvGrpSpPr>
            <p:cNvPr id="54" name=""/>
            <p:cNvGrpSpPr/>
            <p:nvPr/>
          </p:nvGrpSpPr>
          <p:grpSpPr>
            <a:xfrm>
              <a:off x="2286000" y="2514600"/>
              <a:ext cx="4800240" cy="1143000"/>
              <a:chOff x="2286000" y="2514600"/>
              <a:chExt cx="4800240" cy="1143000"/>
            </a:xfrm>
          </p:grpSpPr>
          <p:sp>
            <p:nvSpPr>
              <p:cNvPr id="55" name=""/>
              <p:cNvSpPr/>
              <p:nvPr/>
            </p:nvSpPr>
            <p:spPr>
              <a:xfrm>
                <a:off x="2286000" y="2514600"/>
                <a:ext cx="1642320" cy="11430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928320" y="2514600"/>
                <a:ext cx="164160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570280" y="2514600"/>
                <a:ext cx="1515960" cy="114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286000" y="2666880"/>
              <a:ext cx="4952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Wahl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pflichtfac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0720" y="304920"/>
            <a:ext cx="7543800" cy="990360"/>
          </a:xfrm>
          <a:prstGeom prst="wedgeRoundRectCallout">
            <a:avLst>
              <a:gd name="adj1" fmla="val -46106"/>
              <a:gd name="adj2" fmla="val 179967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ch einmal deutlich der Vergleich zwischen englischer und französischer Spr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752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Verben: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to have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-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oir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243828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, you have,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he has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, we have, they have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J‘ai        tu a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il 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n. avons  ils 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Adjektiv und Substanti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45720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The big boy:      The big boy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 grand ga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: Le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and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a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souriet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135252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457200"/>
            <a:ext cx="2971800" cy="45972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ei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457200"/>
            <a:ext cx="2971800" cy="45972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ei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914400"/>
            <a:ext cx="2971800" cy="224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6 Klassenarb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davon als mündliche Präsentationen mögli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914400"/>
            <a:ext cx="2971800" cy="2399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munikations-fäh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echfäh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se- und Hörverst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5638680"/>
            <a:ext cx="2514600" cy="914400"/>
          </a:xfrm>
          <a:prstGeom prst="wedgeRoundRectCallout">
            <a:avLst>
              <a:gd name="adj1" fmla="val 54606"/>
              <a:gd name="adj2" fmla="val -92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ewert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114800"/>
            <a:ext cx="708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 dem neuen Bildungsplan sollte die in der Fachschaft beschlossene Gewichtung neu überdacht und eventuell geänd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447920" y="3124080"/>
            <a:ext cx="5942880" cy="838440"/>
            <a:chOff x="1447920" y="3124080"/>
            <a:chExt cx="5942880" cy="838440"/>
          </a:xfrm>
        </p:grpSpPr>
        <p:sp>
          <p:nvSpPr>
            <p:cNvPr id="173" name=""/>
            <p:cNvSpPr/>
            <p:nvPr/>
          </p:nvSpPr>
          <p:spPr>
            <a:xfrm>
              <a:off x="1447920" y="3124080"/>
              <a:ext cx="20332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81200" y="3124080"/>
              <a:ext cx="203256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14120" y="3124080"/>
              <a:ext cx="187668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038480" y="32004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 : 1 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 : 1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80880"/>
            <a:ext cx="1981080" cy="914400"/>
          </a:xfrm>
          <a:prstGeom prst="wedgeRoundRectCallout">
            <a:avLst>
              <a:gd name="adj1" fmla="val 47115"/>
              <a:gd name="adj2" fmla="val 815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üf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1752480"/>
            <a:ext cx="6858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wendung der Sprachkennt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3508920"/>
            <a:ext cx="38862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örverständ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2746800"/>
            <a:ext cx="4876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munikationsfäh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08920"/>
            <a:ext cx="4267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echfäh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85800" y="5257800"/>
            <a:ext cx="8000280" cy="609480"/>
            <a:chOff x="685800" y="5257800"/>
            <a:chExt cx="8000280" cy="609480"/>
          </a:xfrm>
        </p:grpSpPr>
        <p:sp>
          <p:nvSpPr>
            <p:cNvPr id="183" name=""/>
            <p:cNvSpPr/>
            <p:nvPr/>
          </p:nvSpPr>
          <p:spPr>
            <a:xfrm>
              <a:off x="685800" y="5257800"/>
              <a:ext cx="273708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2880" y="5257800"/>
              <a:ext cx="27363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9600" y="5257800"/>
              <a:ext cx="252648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8080" y="4194720"/>
            <a:ext cx="3200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4194720"/>
            <a:ext cx="3200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867280" y="4800600"/>
            <a:ext cx="2895480" cy="1143000"/>
            <a:chOff x="5867280" y="4800600"/>
            <a:chExt cx="2895480" cy="1143000"/>
          </a:xfrm>
        </p:grpSpPr>
        <p:sp>
          <p:nvSpPr>
            <p:cNvPr id="189" name=""/>
            <p:cNvSpPr/>
            <p:nvPr/>
          </p:nvSpPr>
          <p:spPr>
            <a:xfrm>
              <a:off x="5867280" y="4800600"/>
              <a:ext cx="99072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4800600"/>
              <a:ext cx="9903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48360" y="4800600"/>
              <a:ext cx="914400" cy="1143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920" y="685800"/>
            <a:ext cx="2895480" cy="1143000"/>
            <a:chOff x="304920" y="685800"/>
            <a:chExt cx="2895480" cy="1143000"/>
          </a:xfrm>
        </p:grpSpPr>
        <p:sp>
          <p:nvSpPr>
            <p:cNvPr id="193" name=""/>
            <p:cNvSpPr/>
            <p:nvPr/>
          </p:nvSpPr>
          <p:spPr>
            <a:xfrm>
              <a:off x="304920" y="685800"/>
              <a:ext cx="99072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640" y="685800"/>
              <a:ext cx="9903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0" y="685800"/>
              <a:ext cx="914400" cy="1143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8120" y="2743200"/>
            <a:ext cx="2895480" cy="1143000"/>
            <a:chOff x="3048120" y="2743200"/>
            <a:chExt cx="2895480" cy="1143000"/>
          </a:xfrm>
        </p:grpSpPr>
        <p:sp>
          <p:nvSpPr>
            <p:cNvPr id="197" name=""/>
            <p:cNvSpPr/>
            <p:nvPr/>
          </p:nvSpPr>
          <p:spPr>
            <a:xfrm>
              <a:off x="3048120" y="2743200"/>
              <a:ext cx="99072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38840" y="2743200"/>
              <a:ext cx="9903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2743200"/>
              <a:ext cx="914400" cy="1143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095880" y="4876920"/>
            <a:ext cx="2667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fra</a:t>
            </a: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7621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J‘</a:t>
            </a: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7200" y="1066680"/>
            <a:ext cx="8305200" cy="5485320"/>
            <a:chOff x="457200" y="1066680"/>
            <a:chExt cx="8305200" cy="5485320"/>
          </a:xfrm>
        </p:grpSpPr>
        <p:sp>
          <p:nvSpPr>
            <p:cNvPr id="60" name=""/>
            <p:cNvSpPr/>
            <p:nvPr/>
          </p:nvSpPr>
          <p:spPr>
            <a:xfrm>
              <a:off x="457200" y="1066680"/>
              <a:ext cx="2840400" cy="5485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97600" y="1066680"/>
              <a:ext cx="2842560" cy="548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40160" y="1066680"/>
              <a:ext cx="2622240" cy="5485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3429000" y="3352680"/>
            <a:ext cx="259092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Zie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3733920" y="1523880"/>
            <a:ext cx="1981080" cy="914400"/>
          </a:xfrm>
          <a:prstGeom prst="wedgeRoundRectCallout">
            <a:avLst>
              <a:gd name="adj1" fmla="val -4569"/>
              <a:gd name="adj2" fmla="val 7760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6172200" y="1981080"/>
            <a:ext cx="2514600" cy="914400"/>
          </a:xfrm>
          <a:prstGeom prst="wedgeRoundRectCallout">
            <a:avLst>
              <a:gd name="adj1" fmla="val -47222"/>
              <a:gd name="adj2" fmla="val 79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ktivitä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648320"/>
            <a:ext cx="2514600" cy="914400"/>
          </a:xfrm>
          <a:prstGeom prst="wedgeRoundRectCallout">
            <a:avLst>
              <a:gd name="adj1" fmla="val 51578"/>
              <a:gd name="adj2" fmla="val -92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ewert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572000"/>
            <a:ext cx="3886200" cy="914400"/>
          </a:xfrm>
          <a:prstGeom prst="wedgeRoundRectCallout">
            <a:avLst>
              <a:gd name="adj1" fmla="val 777"/>
              <a:gd name="adj2" fmla="val -1072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oraussetz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1981440" cy="914400"/>
          </a:xfrm>
          <a:prstGeom prst="wedgeRoundRectCallout">
            <a:avLst>
              <a:gd name="adj1" fmla="val 47115"/>
              <a:gd name="adj2" fmla="val 815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üf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049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eiche in der Fachschaft absprechen. Möglichk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zusammen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1752480" cy="127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352680" y="3962520"/>
            <a:ext cx="274320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Zie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9480" y="533520"/>
            <a:ext cx="8000280" cy="642600"/>
            <a:chOff x="609480" y="533520"/>
            <a:chExt cx="8000280" cy="642600"/>
          </a:xfrm>
        </p:grpSpPr>
        <p:grpSp>
          <p:nvGrpSpPr>
            <p:cNvPr id="73" name=""/>
            <p:cNvGrpSpPr/>
            <p:nvPr/>
          </p:nvGrpSpPr>
          <p:grpSpPr>
            <a:xfrm>
              <a:off x="609480" y="533520"/>
              <a:ext cx="8000280" cy="609120"/>
              <a:chOff x="609480" y="533520"/>
              <a:chExt cx="8000280" cy="609120"/>
            </a:xfrm>
          </p:grpSpPr>
          <p:sp>
            <p:nvSpPr>
              <p:cNvPr id="74" name=""/>
              <p:cNvSpPr/>
              <p:nvPr/>
            </p:nvSpPr>
            <p:spPr>
              <a:xfrm>
                <a:off x="609480" y="533520"/>
                <a:ext cx="2737080" cy="609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346560" y="533520"/>
                <a:ext cx="27363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83280" y="533520"/>
                <a:ext cx="2526480" cy="609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904040" y="533520"/>
              <a:ext cx="52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000000"/>
                  </a:solidFill>
                  <a:latin typeface="Arial"/>
                </a:rPr>
                <a:t>Kommunikationsfähigkei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1219320"/>
            <a:ext cx="8000280" cy="642600"/>
            <a:chOff x="609480" y="1219320"/>
            <a:chExt cx="8000280" cy="642600"/>
          </a:xfrm>
        </p:grpSpPr>
        <p:grpSp>
          <p:nvGrpSpPr>
            <p:cNvPr id="79" name=""/>
            <p:cNvGrpSpPr/>
            <p:nvPr/>
          </p:nvGrpSpPr>
          <p:grpSpPr>
            <a:xfrm>
              <a:off x="609480" y="1219320"/>
              <a:ext cx="8000280" cy="609480"/>
              <a:chOff x="609480" y="1219320"/>
              <a:chExt cx="8000280" cy="609480"/>
            </a:xfrm>
          </p:grpSpPr>
          <p:sp>
            <p:nvSpPr>
              <p:cNvPr id="80" name=""/>
              <p:cNvSpPr/>
              <p:nvPr/>
            </p:nvSpPr>
            <p:spPr>
              <a:xfrm>
                <a:off x="609480" y="1219320"/>
                <a:ext cx="273708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46560" y="1219320"/>
                <a:ext cx="273636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83280" y="1219320"/>
                <a:ext cx="2526480" cy="609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437560" y="1219320"/>
              <a:ext cx="470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000000"/>
                  </a:solidFill>
                  <a:latin typeface="Arial"/>
                </a:rPr>
                <a:t>Interkulturelles Lern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09480" y="5562720"/>
            <a:ext cx="8000280" cy="642600"/>
            <a:chOff x="609480" y="5562720"/>
            <a:chExt cx="8000280" cy="642600"/>
          </a:xfrm>
        </p:grpSpPr>
        <p:grpSp>
          <p:nvGrpSpPr>
            <p:cNvPr id="85" name=""/>
            <p:cNvGrpSpPr/>
            <p:nvPr/>
          </p:nvGrpSpPr>
          <p:grpSpPr>
            <a:xfrm>
              <a:off x="609480" y="5562720"/>
              <a:ext cx="8000280" cy="609120"/>
              <a:chOff x="609480" y="5562720"/>
              <a:chExt cx="8000280" cy="609120"/>
            </a:xfrm>
          </p:grpSpPr>
          <p:sp>
            <p:nvSpPr>
              <p:cNvPr id="86" name=""/>
              <p:cNvSpPr/>
              <p:nvPr/>
            </p:nvSpPr>
            <p:spPr>
              <a:xfrm>
                <a:off x="609480" y="5562720"/>
                <a:ext cx="2737080" cy="609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46560" y="5562720"/>
                <a:ext cx="2736360" cy="60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83280" y="5562720"/>
                <a:ext cx="2526480" cy="609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277080" y="5562720"/>
              <a:ext cx="282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000000"/>
                  </a:solidFill>
                  <a:latin typeface="Arial"/>
                </a:rPr>
                <a:t>Perspektiv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57200" y="304920"/>
            <a:ext cx="1981080" cy="914400"/>
          </a:xfrm>
          <a:prstGeom prst="wedgeRoundRectCallout">
            <a:avLst>
              <a:gd name="adj1" fmla="val -4569"/>
              <a:gd name="adj2" fmla="val 7760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733920"/>
            <a:ext cx="3352680" cy="83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ramma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724280"/>
            <a:ext cx="3429000" cy="838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ortsch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724280"/>
            <a:ext cx="3200400" cy="8384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demit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3733920"/>
            <a:ext cx="2895480" cy="8380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x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743200"/>
            <a:ext cx="3429000" cy="8380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andesk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676520"/>
            <a:ext cx="6476760" cy="8380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rachliche Fertigk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2743200"/>
            <a:ext cx="2819520" cy="8380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tho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24480" y="228600"/>
            <a:ext cx="2590920" cy="762120"/>
          </a:xfrm>
          <a:prstGeom prst="wedgeRoundRectCallout">
            <a:avLst>
              <a:gd name="adj1" fmla="val -47796"/>
              <a:gd name="adj2" fmla="val 71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ktivitä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1295280"/>
            <a:ext cx="8000280" cy="609480"/>
            <a:chOff x="838080" y="1295280"/>
            <a:chExt cx="8000280" cy="609480"/>
          </a:xfrm>
        </p:grpSpPr>
        <p:grpSp>
          <p:nvGrpSpPr>
            <p:cNvPr id="100" name=""/>
            <p:cNvGrpSpPr/>
            <p:nvPr/>
          </p:nvGrpSpPr>
          <p:grpSpPr>
            <a:xfrm>
              <a:off x="838080" y="1295280"/>
              <a:ext cx="8000280" cy="609480"/>
              <a:chOff x="838080" y="1295280"/>
              <a:chExt cx="8000280" cy="60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838080" y="1295280"/>
                <a:ext cx="273708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75160" y="1295280"/>
                <a:ext cx="273636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311880" y="1295280"/>
                <a:ext cx="2526480" cy="609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4273920" y="1371240"/>
              <a:ext cx="127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Black"/>
                </a:rPr>
                <a:t>Ausflu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8080" y="2133720"/>
            <a:ext cx="8000280" cy="609480"/>
            <a:chOff x="838080" y="2133720"/>
            <a:chExt cx="8000280" cy="609480"/>
          </a:xfrm>
        </p:grpSpPr>
        <p:grpSp>
          <p:nvGrpSpPr>
            <p:cNvPr id="106" name=""/>
            <p:cNvGrpSpPr/>
            <p:nvPr/>
          </p:nvGrpSpPr>
          <p:grpSpPr>
            <a:xfrm>
              <a:off x="838080" y="2133720"/>
              <a:ext cx="8000280" cy="609480"/>
              <a:chOff x="838080" y="2133720"/>
              <a:chExt cx="8000280" cy="609480"/>
            </a:xfrm>
          </p:grpSpPr>
          <p:sp>
            <p:nvSpPr>
              <p:cNvPr id="107" name=""/>
              <p:cNvSpPr/>
              <p:nvPr/>
            </p:nvSpPr>
            <p:spPr>
              <a:xfrm>
                <a:off x="838080" y="2133720"/>
                <a:ext cx="273708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75160" y="2133720"/>
                <a:ext cx="273636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11880" y="2133720"/>
                <a:ext cx="2526480" cy="609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242600" y="221004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Black"/>
                </a:rPr>
                <a:t>Kontak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5800" y="5562720"/>
            <a:ext cx="8000280" cy="609480"/>
            <a:chOff x="685800" y="5562720"/>
            <a:chExt cx="8000280" cy="609480"/>
          </a:xfrm>
        </p:grpSpPr>
        <p:grpSp>
          <p:nvGrpSpPr>
            <p:cNvPr id="112" name=""/>
            <p:cNvGrpSpPr/>
            <p:nvPr/>
          </p:nvGrpSpPr>
          <p:grpSpPr>
            <a:xfrm>
              <a:off x="685800" y="5562720"/>
              <a:ext cx="8000280" cy="609480"/>
              <a:chOff x="685800" y="5562720"/>
              <a:chExt cx="8000280" cy="609480"/>
            </a:xfrm>
          </p:grpSpPr>
          <p:sp>
            <p:nvSpPr>
              <p:cNvPr id="113" name=""/>
              <p:cNvSpPr/>
              <p:nvPr/>
            </p:nvSpPr>
            <p:spPr>
              <a:xfrm>
                <a:off x="685800" y="5562720"/>
                <a:ext cx="273708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22880" y="5562720"/>
                <a:ext cx="273636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59600" y="5562720"/>
                <a:ext cx="2526480" cy="609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026600" y="563868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Black"/>
                </a:rPr>
                <a:t>Austaus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souriet_klein" descr=""/>
          <p:cNvPicPr/>
          <p:nvPr/>
        </p:nvPicPr>
        <p:blipFill>
          <a:blip r:embed="rId1"/>
          <a:stretch/>
        </p:blipFill>
        <p:spPr>
          <a:xfrm>
            <a:off x="4267080" y="4267080"/>
            <a:ext cx="703440" cy="951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2895480"/>
            <a:ext cx="784872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er bietet sich ein Einbinden von Fotos 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Schüleraustausch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14600" y="5486400"/>
            <a:ext cx="3886200" cy="914400"/>
          </a:xfrm>
          <a:prstGeom prst="wedgeRoundRectCallout">
            <a:avLst>
              <a:gd name="adj1" fmla="val 777"/>
              <a:gd name="adj2" fmla="val -1072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oraussetz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572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rbeitshal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572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istungs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600200"/>
            <a:ext cx="708660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halte ebenfalls absprechen (Bsp.: Leistungsstand D/E, Nebenfächer, Überforderung, Lerntipps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276720"/>
            <a:ext cx="66294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r sollte Französich wähl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4038480"/>
            <a:ext cx="66294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r sollte Französich nicht wähl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ouriette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725760" cy="9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1600200"/>
            <a:ext cx="800100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nn gewünscht: Beispiele zur Verdeutlichung der Unterschiede zwischen englischer und französischer Sprache unter Einbeziehung der Eltern.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Runden: Wer wird Millionä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6019920" y="3276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QUI DEVIENDRA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dnen Sie das Verb „avoir“ in der Reihenfolge „je, tu, il, ils“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: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1814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: 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6002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: j‘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: tu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: il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: ils 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114300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138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141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715000" y="58672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: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QUI DEVIENDRA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dnen Sie das Verb „to have“ in der Reihenfolge: I, you, he,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: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51814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: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1600200"/>
            <a:ext cx="205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/C/D: I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/C/D: you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:         he 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/C/D: they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91440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154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157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5715000" y="58672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: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7:56:58Z</dcterms:created>
  <dc:creator>Unknown User</dc:creator>
  <dc:description/>
  <dc:language>en-US</dc:language>
  <cp:lastModifiedBy>Hirschmann</cp:lastModifiedBy>
  <dcterms:modified xsi:type="dcterms:W3CDTF">2003-10-05T08:14:23Z</dcterms:modified>
  <cp:revision>188</cp:revision>
  <dc:subject/>
  <dc:title>PowerPoint-Präsentation</dc:title>
</cp:coreProperties>
</file>