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80F-C778-4B65-961E-72D187AD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657-D912-49D5-A3AD-5F1E377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570-4732-40F9-B2D0-633334DF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1A2-EF12-4BD1-BE05-9EDB6F43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FD2-A4D4-44DB-81DD-167A4D12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AEA-E983-4794-9F1E-604C52F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B69-CDD8-419F-B425-C3B0473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0BF-40EB-4268-B97E-C74A612C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BE8-547A-4DC0-8FE0-7AD01476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904-5E40-43D7-B054-E2FD33CA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349-6D29-45C8-856D-F7001C7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FA4-F1F9-4E1F-9D3F-3D66E82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B5BA-FF31-4E9B-9E4E-1C97E1B0BB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21"/>
          <p:cNvGrpSpPr/>
          <p:nvPr/>
        </p:nvGrpSpPr>
        <p:grpSpPr>
          <a:xfrm>
            <a:off x="216000" y="1168200"/>
            <a:ext cx="8532720" cy="4421520"/>
            <a:chOff x="216000" y="1168200"/>
            <a:chExt cx="8532720" cy="4421520"/>
          </a:xfrm>
        </p:grpSpPr>
        <p:grpSp>
          <p:nvGrpSpPr>
            <p:cNvPr id="42" name="Gruppieren 20"/>
            <p:cNvGrpSpPr/>
            <p:nvPr/>
          </p:nvGrpSpPr>
          <p:grpSpPr>
            <a:xfrm>
              <a:off x="1476000" y="1168200"/>
              <a:ext cx="7272720" cy="4421520"/>
              <a:chOff x="1476000" y="1168200"/>
              <a:chExt cx="7272720" cy="4421520"/>
            </a:xfrm>
          </p:grpSpPr>
          <p:sp>
            <p:nvSpPr>
              <p:cNvPr id="43" name="Rechteck 3"/>
              <p:cNvSpPr/>
              <p:nvPr/>
            </p:nvSpPr>
            <p:spPr>
              <a:xfrm>
                <a:off x="1476000" y="1197360"/>
                <a:ext cx="7272720" cy="4392360"/>
              </a:xfrm>
              <a:prstGeom prst="rect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Gerade Verbindung 5"/>
              <p:cNvSpPr/>
              <p:nvPr/>
            </p:nvSpPr>
            <p:spPr>
              <a:xfrm>
                <a:off x="1476000" y="3069720"/>
                <a:ext cx="5688720" cy="0"/>
              </a:xfrm>
              <a:prstGeom prst="line">
                <a:avLst/>
              </a:prstGeom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Gerade Verbindung 6"/>
              <p:cNvSpPr/>
              <p:nvPr/>
            </p:nvSpPr>
            <p:spPr>
              <a:xfrm>
                <a:off x="1476000" y="3673440"/>
                <a:ext cx="5688720" cy="0"/>
              </a:xfrm>
              <a:prstGeom prst="line">
                <a:avLst/>
              </a:prstGeom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Gerade Verbindung 9"/>
              <p:cNvSpPr/>
              <p:nvPr/>
            </p:nvSpPr>
            <p:spPr>
              <a:xfrm flipV="1">
                <a:off x="7164720" y="1197000"/>
                <a:ext cx="0" cy="4392360"/>
              </a:xfrm>
              <a:prstGeom prst="line">
                <a:avLst/>
              </a:prstGeom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Gerade Verbindung 14"/>
              <p:cNvSpPr/>
              <p:nvPr/>
            </p:nvSpPr>
            <p:spPr>
              <a:xfrm flipV="1">
                <a:off x="5220360" y="1168200"/>
                <a:ext cx="0" cy="1901160"/>
              </a:xfrm>
              <a:prstGeom prst="line">
                <a:avLst/>
              </a:prstGeom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Gerade Verbindung 16"/>
              <p:cNvSpPr/>
              <p:nvPr/>
            </p:nvSpPr>
            <p:spPr>
              <a:xfrm flipV="1">
                <a:off x="3348000" y="1168200"/>
                <a:ext cx="0" cy="1901160"/>
              </a:xfrm>
              <a:prstGeom prst="line">
                <a:avLst/>
              </a:prstGeom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" name="Gerade Verbindung 17"/>
              <p:cNvSpPr/>
              <p:nvPr/>
            </p:nvSpPr>
            <p:spPr>
              <a:xfrm flipV="1">
                <a:off x="3924360" y="3688200"/>
                <a:ext cx="0" cy="1901160"/>
              </a:xfrm>
              <a:prstGeom prst="line">
                <a:avLst/>
              </a:prstGeom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" name="Textfeld 18"/>
              <p:cNvSpPr/>
              <p:nvPr/>
            </p:nvSpPr>
            <p:spPr>
              <a:xfrm>
                <a:off x="5079600" y="3209040"/>
                <a:ext cx="126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Calibri"/>
                  </a:rPr>
                  <a:t>el pasillo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Textfeld 19"/>
            <p:cNvSpPr/>
            <p:nvPr/>
          </p:nvSpPr>
          <p:spPr>
            <a:xfrm>
              <a:off x="216000" y="3176640"/>
              <a:ext cx="12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la entrad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18:50:39Z</dcterms:created>
  <dc:creator>BK</dc:creator>
  <dc:description/>
  <dc:language>en-US</dc:language>
  <cp:lastModifiedBy>BK</cp:lastModifiedBy>
  <dcterms:modified xsi:type="dcterms:W3CDTF">2013-02-13T18:01:35Z</dcterms:modified>
  <cp:revision>1</cp:revision>
  <dc:subject/>
  <dc:title>PowerPoint-Präsentation</dc:title>
</cp:coreProperties>
</file>